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8.wmf" ContentType="image/x-wmf"/>
  <Override PartName="/ppt/media/image30.png" ContentType="image/png"/>
  <Override PartName="/ppt/media/image37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23.jpeg" ContentType="image/jpeg"/>
  <Override PartName="/ppt/media/image11.gif" ContentType="image/gif"/>
  <Override PartName="/ppt/media/image7.gif" ContentType="image/gif"/>
  <Override PartName="/ppt/media/image13.png" ContentType="image/png"/>
  <Override PartName="/ppt/media/image10.gif" ContentType="image/gif"/>
  <Override PartName="/ppt/media/image12.jpeg" ContentType="image/jpeg"/>
  <Override PartName="/ppt/media/image22.jpeg" ContentType="image/jpeg"/>
  <Override PartName="/ppt/media/image32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15.jpeg" ContentType="image/jpeg"/>
  <Override PartName="/ppt/media/image27.png" ContentType="image/png"/>
  <Override PartName="/ppt/media/image4.gif" ContentType="image/gif"/>
  <Override PartName="/ppt/media/image34.gif" ContentType="image/gif"/>
  <Override PartName="/ppt/media/image9.gif" ContentType="image/gif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png" ContentType="image/png"/>
  <Override PartName="/ppt/media/image2.jpeg" ContentType="image/jpeg"/>
  <Override PartName="/ppt/media/image36.jpeg" ContentType="image/jpeg"/>
  <Override PartName="/ppt/media/image20.png" ContentType="image/png"/>
  <Override PartName="/ppt/media/image6.gif" ContentType="image/gif"/>
  <Override PartName="/ppt/media/image21.jpeg" ContentType="image/jpeg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F467-9F5F-406C-8FE0-4E27319F3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31E4-F1B3-469B-B058-E9B063550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CE5E-AA6F-4852-9A02-8B0942509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5FD4-8606-4B33-99CB-842FF0C19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ED51-00D2-440E-9728-058C67232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92D4-72EB-4058-AF38-C0BAA28A8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0184-1EC0-443F-A6ED-55E4F4032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6A42-CD66-4467-BEEF-98C9E8730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F4A-56E8-4CF8-8DF4-091B29E99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9DE8-CB5B-4067-A5B6-C43AEF076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00C-33EA-45CE-8F1A-AD5AF3AB8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723A-C238-4F4D-A999-AD34AC840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C6BC-A671-46DB-B448-E7FDF5381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B7A-9CA6-4025-B114-D3819EDA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50F-13ED-482D-8682-F94F8EF5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851-C0E8-4852-BEEB-CDF5D441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D71-5394-4AC3-9C78-8A526945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3168-429B-485B-A658-F4A06161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AA0A-FA27-4981-B659-4F444505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B07-4E5A-4D32-B702-9EA274DA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7A95-8BD7-4EDD-822E-971DE3AC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9A5B-CBB9-4729-BA75-6CD4A228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CA75-1894-4DF1-8809-9A73E6DE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DA47-8CE7-4037-AB2C-5BD34F5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16D-B9AF-4F8C-BB57-25771224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BE89-951C-4130-A8DD-0D00B7F9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7B29-E5AB-41DF-BDB4-86D206E6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3A5E-E5D6-494F-A7AE-1FEEF0F9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0E7C-0036-44ED-A2E8-76AC4ECC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B517-5B07-4FEC-A18B-9BC13A57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51F-67E8-4109-B084-E258FBD0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293-DED8-44B2-8D6E-265216F5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610-31FD-4D12-A2D8-F68D5526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57D-30C1-4DC1-BA31-78C81B04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3DB-C914-45C3-B4C2-4368EE7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D61-472B-48ED-ADD0-D0D62ADE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1AD-734D-4785-A9B9-8134FDE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0BF5-0273-411B-83F7-52D08C7168F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0008-608C-4CAE-B2C1-69F92868289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33.png"/><Relationship Id="rId6" Type="http://schemas.openxmlformats.org/officeDocument/2006/relationships/image" Target="../media/image34.gif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26.xml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slide3.xml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476360" y="476280"/>
            <a:ext cx="6335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Урок  математики в 5  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24000" y="1916280"/>
            <a:ext cx="8064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Тема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«Сложение , вычит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и округ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десятичных дроб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рисует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80360" y="404640"/>
            <a:ext cx="1655640" cy="14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penclhpy"/>
          <p:cNvPicPr/>
          <p:nvPr/>
        </p:nvPicPr>
        <p:blipFill>
          <a:blip r:embed="rId3"/>
          <a:stretch/>
        </p:blipFill>
        <p:spPr>
          <a:xfrm>
            <a:off x="7667640" y="4869000"/>
            <a:ext cx="1028520" cy="127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21M2"/>
          <p:cNvPicPr/>
          <p:nvPr/>
        </p:nvPicPr>
        <p:blipFill>
          <a:blip r:embed="rId4"/>
          <a:stretch/>
        </p:blipFill>
        <p:spPr>
          <a:xfrm>
            <a:off x="250920" y="189000"/>
            <a:ext cx="1573200" cy="1655640"/>
          </a:xfrm>
          <a:prstGeom prst="rect">
            <a:avLst/>
          </a:prstGeom>
          <a:ln w="0">
            <a:noFill/>
          </a:ln>
        </p:spPr>
      </p:pic>
      <p:pic>
        <p:nvPicPr>
          <p:cNvPr id="98" name="Paul Mauriat - Track 23.mp3" descr=""/>
          <p:cNvPicPr/>
          <p:nvPr/>
        </p:nvPicPr>
        <p:blipFill>
          <a:blip r:embed="rId5"/>
          <a:stretch/>
        </p:blipFill>
        <p:spPr>
          <a:xfrm>
            <a:off x="680400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1"/>
          <p:cNvSpPr/>
          <p:nvPr/>
        </p:nvSpPr>
        <p:spPr>
          <a:xfrm>
            <a:off x="2340000" y="4581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Высококолков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ева Ольг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67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1692360" y="692280"/>
            <a:ext cx="6048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99"/>
                </a:solidFill>
                <a:latin typeface="Arial"/>
              </a:rPr>
              <a:t>Из шкурок какого зверька шилась  королевская мантия?</a:t>
            </a:r>
            <a:r>
              <a:rPr b="1" i="1" lang="ru-RU" sz="2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белка"/>
          <p:cNvPicPr/>
          <p:nvPr/>
        </p:nvPicPr>
        <p:blipFill>
          <a:blip r:embed="rId1"/>
          <a:stretch/>
        </p:blipFill>
        <p:spPr>
          <a:xfrm>
            <a:off x="250920" y="1484280"/>
            <a:ext cx="2692440" cy="2951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соболь"/>
          <p:cNvPicPr/>
          <p:nvPr/>
        </p:nvPicPr>
        <p:blipFill>
          <a:blip r:embed="rId2">
            <a:lum bright="6000"/>
          </a:blip>
          <a:srcRect l="13089" t="0" r="22513" b="0"/>
          <a:stretch/>
        </p:blipFill>
        <p:spPr>
          <a:xfrm>
            <a:off x="6012000" y="1484280"/>
            <a:ext cx="2840040" cy="2952720"/>
          </a:xfrm>
          <a:prstGeom prst="rect">
            <a:avLst/>
          </a:prstGeom>
          <a:ln w="0">
            <a:noFill/>
          </a:ln>
        </p:spPr>
      </p:pic>
      <p:sp>
        <p:nvSpPr>
          <p:cNvPr id="262" name="Oval 5"/>
          <p:cNvSpPr/>
          <p:nvPr/>
        </p:nvSpPr>
        <p:spPr>
          <a:xfrm>
            <a:off x="611280" y="4437000"/>
            <a:ext cx="180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6372360" y="4437000"/>
            <a:ext cx="180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95280" y="5589720"/>
            <a:ext cx="647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1763640" y="5445000"/>
            <a:ext cx="792360" cy="7826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1116000" y="587700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116000" y="5373720"/>
            <a:ext cx="647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5435640" y="580536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3995640" y="587700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2627280" y="587700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6084720" y="5589720"/>
            <a:ext cx="648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3276720" y="5589720"/>
            <a:ext cx="647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6"/>
          <p:cNvSpPr/>
          <p:nvPr/>
        </p:nvSpPr>
        <p:spPr>
          <a:xfrm>
            <a:off x="4643280" y="5445000"/>
            <a:ext cx="792360" cy="7826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7"/>
          <p:cNvSpPr/>
          <p:nvPr/>
        </p:nvSpPr>
        <p:spPr>
          <a:xfrm>
            <a:off x="7451640" y="5445000"/>
            <a:ext cx="792360" cy="7826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6804000" y="587700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2556000" y="537372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9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3995640" y="53737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5364000" y="530064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5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6804000" y="53737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2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3"/>
          <p:cNvSpPr/>
          <p:nvPr/>
        </p:nvSpPr>
        <p:spPr>
          <a:xfrm>
            <a:off x="7451640" y="5445000"/>
            <a:ext cx="792360" cy="78264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4"/>
          <p:cNvSpPr/>
          <p:nvPr/>
        </p:nvSpPr>
        <p:spPr>
          <a:xfrm>
            <a:off x="4643280" y="5445000"/>
            <a:ext cx="792360" cy="78264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5"/>
          <p:cNvSpPr/>
          <p:nvPr/>
        </p:nvSpPr>
        <p:spPr>
          <a:xfrm>
            <a:off x="1763640" y="5445000"/>
            <a:ext cx="792360" cy="78264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3276720" y="5589720"/>
            <a:ext cx="647640" cy="5032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7"/>
          <p:cNvSpPr/>
          <p:nvPr/>
        </p:nvSpPr>
        <p:spPr>
          <a:xfrm>
            <a:off x="6084720" y="5589720"/>
            <a:ext cx="648000" cy="5032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268360" y="4508640"/>
            <a:ext cx="648000" cy="5029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9"/>
          <p:cNvGrpSpPr/>
          <p:nvPr/>
        </p:nvGrpSpPr>
        <p:grpSpPr>
          <a:xfrm>
            <a:off x="3059280" y="1484280"/>
            <a:ext cx="2857320" cy="3529080"/>
            <a:chOff x="3059280" y="1484280"/>
            <a:chExt cx="2857320" cy="3529080"/>
          </a:xfrm>
        </p:grpSpPr>
        <p:pic>
          <p:nvPicPr>
            <p:cNvPr id="287" name="Picture 30" descr="горностай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28573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Oval 31"/>
            <p:cNvSpPr/>
            <p:nvPr/>
          </p:nvSpPr>
          <p:spPr>
            <a:xfrm>
              <a:off x="3276720" y="4508640"/>
              <a:ext cx="180000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33"/>
                  </a:solidFill>
                  <a:latin typeface="Arial"/>
                </a:rPr>
                <a:t>Горност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2"/>
            <p:cNvSpPr/>
            <p:nvPr/>
          </p:nvSpPr>
          <p:spPr>
            <a:xfrm>
              <a:off x="5148360" y="4508640"/>
              <a:ext cx="647640" cy="5029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33"/>
          <p:cNvSpPr/>
          <p:nvPr/>
        </p:nvSpPr>
        <p:spPr>
          <a:xfrm>
            <a:off x="8172360" y="4508640"/>
            <a:ext cx="647640" cy="5029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34"/>
          <p:cNvSpPr txBox="1"/>
          <p:nvPr/>
        </p:nvSpPr>
        <p:spPr>
          <a:xfrm>
            <a:off x="2195640" y="189000"/>
            <a:ext cx="50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ычисли ус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92" name="AutoShape 35"/>
          <p:cNvSpPr/>
          <p:nvPr/>
        </p:nvSpPr>
        <p:spPr>
          <a:xfrm>
            <a:off x="788508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16234" y="3837"/>
                </a:moveTo>
                <a:lnTo>
                  <a:pt x="18810" y="6448"/>
                </a:ln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lnTo>
                  <a:pt x="23197" y="10800"/>
                </a:lnTo>
                <a:lnTo>
                  <a:pt x="21543" y="10800"/>
                </a:lnTo>
                <a:lnTo>
                  <a:pt x="21543" y="17989"/>
                </a:lnTo>
                <a:lnTo>
                  <a:pt x="10925" y="17989"/>
                </a:lnTo>
                <a:lnTo>
                  <a:pt x="10925" y="10800"/>
                </a:lnTo>
                <a:lnTo>
                  <a:pt x="9271" y="10800"/>
                </a:lnTo>
                <a:close/>
              </a:path>
              <a:path fill="darkenLess" w="32468" h="21600">
                <a:moveTo>
                  <a:pt x="18810" y="6448"/>
                </a:move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close/>
              </a:path>
              <a:path fill="darkenLess" w="32468" h="21600">
                <a:moveTo>
                  <a:pt x="15311" y="14299"/>
                </a:moveTo>
                <a:lnTo>
                  <a:pt x="17156" y="14299"/>
                </a:lnTo>
                <a:lnTo>
                  <a:pt x="17156" y="17989"/>
                </a:lnTo>
                <a:lnTo>
                  <a:pt x="21543" y="17989"/>
                </a:lnTo>
                <a:lnTo>
                  <a:pt x="21543" y="10800"/>
                </a:lnTo>
                <a:lnTo>
                  <a:pt x="10925" y="10800"/>
                </a:lnTo>
                <a:lnTo>
                  <a:pt x="10925" y="17989"/>
                </a:lnTo>
                <a:lnTo>
                  <a:pt x="15311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6">
            <a:hlinkClick r:id="" action="ppaction://hlinkshowjump?jump=nextslide"/>
          </p:cNvPr>
          <p:cNvSpPr/>
          <p:nvPr/>
        </p:nvSpPr>
        <p:spPr>
          <a:xfrm>
            <a:off x="838836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1692360" y="692280"/>
            <a:ext cx="6048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99"/>
                </a:solidFill>
                <a:latin typeface="Arial"/>
              </a:rPr>
              <a:t>Из шкурок какого зверька шилась  королевская мантия?</a:t>
            </a:r>
            <a:r>
              <a:rPr b="1" i="1" lang="ru-RU" sz="2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белка"/>
          <p:cNvPicPr/>
          <p:nvPr/>
        </p:nvPicPr>
        <p:blipFill>
          <a:blip r:embed="rId1"/>
          <a:stretch/>
        </p:blipFill>
        <p:spPr>
          <a:xfrm>
            <a:off x="250920" y="1484280"/>
            <a:ext cx="2692440" cy="2951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соболь"/>
          <p:cNvPicPr/>
          <p:nvPr/>
        </p:nvPicPr>
        <p:blipFill>
          <a:blip r:embed="rId2">
            <a:lum bright="6000"/>
          </a:blip>
          <a:srcRect l="13089" t="0" r="22513" b="0"/>
          <a:stretch/>
        </p:blipFill>
        <p:spPr>
          <a:xfrm>
            <a:off x="6012000" y="1484280"/>
            <a:ext cx="2840040" cy="2952720"/>
          </a:xfrm>
          <a:prstGeom prst="rect">
            <a:avLst/>
          </a:prstGeom>
          <a:ln w="0">
            <a:noFill/>
          </a:ln>
        </p:spPr>
      </p:pic>
      <p:sp>
        <p:nvSpPr>
          <p:cNvPr id="297" name="Oval 5"/>
          <p:cNvSpPr/>
          <p:nvPr/>
        </p:nvSpPr>
        <p:spPr>
          <a:xfrm>
            <a:off x="611280" y="4437000"/>
            <a:ext cx="180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6372360" y="4437000"/>
            <a:ext cx="180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95280" y="5589720"/>
            <a:ext cx="647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763640" y="5445000"/>
            <a:ext cx="792360" cy="7826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1116000" y="587700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116000" y="5373720"/>
            <a:ext cx="647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5435640" y="580536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3995640" y="587700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2627280" y="587700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6084720" y="5589720"/>
            <a:ext cx="648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3276720" y="5589720"/>
            <a:ext cx="647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6"/>
          <p:cNvSpPr/>
          <p:nvPr/>
        </p:nvSpPr>
        <p:spPr>
          <a:xfrm>
            <a:off x="4643280" y="5445000"/>
            <a:ext cx="792360" cy="7826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7"/>
          <p:cNvSpPr/>
          <p:nvPr/>
        </p:nvSpPr>
        <p:spPr>
          <a:xfrm>
            <a:off x="7451640" y="5445000"/>
            <a:ext cx="792360" cy="7826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6804000" y="587700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2556000" y="537372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9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3995640" y="53737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5364000" y="530064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5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6804000" y="53737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2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3"/>
          <p:cNvSpPr/>
          <p:nvPr/>
        </p:nvSpPr>
        <p:spPr>
          <a:xfrm>
            <a:off x="7451640" y="5445000"/>
            <a:ext cx="792360" cy="78264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4"/>
          <p:cNvSpPr/>
          <p:nvPr/>
        </p:nvSpPr>
        <p:spPr>
          <a:xfrm>
            <a:off x="4643280" y="5445000"/>
            <a:ext cx="792360" cy="78264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0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5"/>
          <p:cNvSpPr/>
          <p:nvPr/>
        </p:nvSpPr>
        <p:spPr>
          <a:xfrm>
            <a:off x="1763640" y="5445000"/>
            <a:ext cx="792360" cy="78264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3276720" y="5589720"/>
            <a:ext cx="647640" cy="5032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6084720" y="5589720"/>
            <a:ext cx="648000" cy="5032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5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8"/>
          <p:cNvSpPr/>
          <p:nvPr/>
        </p:nvSpPr>
        <p:spPr>
          <a:xfrm>
            <a:off x="2268360" y="4508640"/>
            <a:ext cx="648000" cy="5029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9"/>
          <p:cNvGrpSpPr/>
          <p:nvPr/>
        </p:nvGrpSpPr>
        <p:grpSpPr>
          <a:xfrm>
            <a:off x="3059280" y="1484280"/>
            <a:ext cx="2857320" cy="3529080"/>
            <a:chOff x="3059280" y="1484280"/>
            <a:chExt cx="2857320" cy="3529080"/>
          </a:xfrm>
        </p:grpSpPr>
        <p:pic>
          <p:nvPicPr>
            <p:cNvPr id="322" name="Picture 30" descr="горностай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28573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Oval 31"/>
            <p:cNvSpPr/>
            <p:nvPr/>
          </p:nvSpPr>
          <p:spPr>
            <a:xfrm>
              <a:off x="3276720" y="4508640"/>
              <a:ext cx="180000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33"/>
                  </a:solidFill>
                  <a:latin typeface="Arial"/>
                </a:rPr>
                <a:t>Горност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2"/>
            <p:cNvSpPr/>
            <p:nvPr/>
          </p:nvSpPr>
          <p:spPr>
            <a:xfrm>
              <a:off x="5148360" y="4508640"/>
              <a:ext cx="647640" cy="5029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8172360" y="4508640"/>
            <a:ext cx="647640" cy="5029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WordArt 34"/>
          <p:cNvSpPr txBox="1"/>
          <p:nvPr/>
        </p:nvSpPr>
        <p:spPr>
          <a:xfrm>
            <a:off x="2195640" y="189000"/>
            <a:ext cx="50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ычисли ус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27" name="AutoShape 35"/>
          <p:cNvSpPr/>
          <p:nvPr/>
        </p:nvSpPr>
        <p:spPr>
          <a:xfrm>
            <a:off x="788508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16234" y="3837"/>
                </a:moveTo>
                <a:lnTo>
                  <a:pt x="18810" y="6448"/>
                </a:ln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lnTo>
                  <a:pt x="23197" y="10800"/>
                </a:lnTo>
                <a:lnTo>
                  <a:pt x="21543" y="10800"/>
                </a:lnTo>
                <a:lnTo>
                  <a:pt x="21543" y="17989"/>
                </a:lnTo>
                <a:lnTo>
                  <a:pt x="10925" y="17989"/>
                </a:lnTo>
                <a:lnTo>
                  <a:pt x="10925" y="10800"/>
                </a:lnTo>
                <a:lnTo>
                  <a:pt x="9271" y="10800"/>
                </a:lnTo>
                <a:close/>
              </a:path>
              <a:path fill="darkenLess" w="32468" h="21600">
                <a:moveTo>
                  <a:pt x="18810" y="6448"/>
                </a:move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close/>
              </a:path>
              <a:path fill="darkenLess" w="32468" h="21600">
                <a:moveTo>
                  <a:pt x="15311" y="14299"/>
                </a:moveTo>
                <a:lnTo>
                  <a:pt x="17156" y="14299"/>
                </a:lnTo>
                <a:lnTo>
                  <a:pt x="17156" y="17989"/>
                </a:lnTo>
                <a:lnTo>
                  <a:pt x="21543" y="17989"/>
                </a:lnTo>
                <a:lnTo>
                  <a:pt x="21543" y="10800"/>
                </a:lnTo>
                <a:lnTo>
                  <a:pt x="10925" y="10800"/>
                </a:lnTo>
                <a:lnTo>
                  <a:pt x="10925" y="17989"/>
                </a:lnTo>
                <a:lnTo>
                  <a:pt x="15311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6">
            <a:hlinkClick r:id="" action="ppaction://hlinkshowjump?jump=nextslide"/>
          </p:cNvPr>
          <p:cNvSpPr/>
          <p:nvPr/>
        </p:nvSpPr>
        <p:spPr>
          <a:xfrm>
            <a:off x="838836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Garamond"/>
              </a:rPr>
              <a:t>Скорость одного пешехода 3,2 км/ч, а второго 4,5км/ч.Определите, удаляются или сближаются пешеходы и на сколько Если они вышли: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з одного пункта  в противоположных направлен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з двух различных пунктов навстречу друг друг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"/>
          <p:cNvGrpSpPr/>
          <p:nvPr/>
        </p:nvGrpSpPr>
        <p:grpSpPr>
          <a:xfrm>
            <a:off x="468360" y="1844640"/>
            <a:ext cx="3384360" cy="646200"/>
            <a:chOff x="468360" y="1844640"/>
            <a:chExt cx="3384360" cy="646200"/>
          </a:xfrm>
        </p:grpSpPr>
        <p:sp>
          <p:nvSpPr>
            <p:cNvPr id="332" name="AutoShape 30"/>
            <p:cNvSpPr/>
            <p:nvPr/>
          </p:nvSpPr>
          <p:spPr>
            <a:xfrm>
              <a:off x="468360" y="1844640"/>
              <a:ext cx="33843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1"/>
            <p:cNvSpPr/>
            <p:nvPr/>
          </p:nvSpPr>
          <p:spPr>
            <a:xfrm>
              <a:off x="714240" y="2214000"/>
              <a:ext cx="2030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ree"/>
            <p:cNvSpPr/>
            <p:nvPr/>
          </p:nvSpPr>
          <p:spPr>
            <a:xfrm>
              <a:off x="1514160" y="1936440"/>
              <a:ext cx="276480" cy="172440"/>
            </a:xfrm>
            <a:custGeom>
              <a:avLst/>
              <a:gdLst>
                <a:gd name="textAreaLeft" fmla="*/ 9360 w 276480"/>
                <a:gd name="textAreaRight" fmla="*/ 270000 w 276480"/>
                <a:gd name="textAreaTop" fmla="*/ 179280 h 172440"/>
                <a:gd name="textAreaBottom" fmla="*/ 225720 h 17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9257" y="216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21600"/>
                  </a:lnTo>
                  <a:lnTo>
                    <a:pt x="21600" y="21600"/>
                  </a:lnTo>
                  <a:lnTo>
                    <a:pt x="12343" y="14400"/>
                  </a:lnTo>
                  <a:lnTo>
                    <a:pt x="18514" y="14400"/>
                  </a:lnTo>
                  <a:lnTo>
                    <a:pt x="12343" y="7200"/>
                  </a:lnTo>
                  <a:lnTo>
                    <a:pt x="15429" y="7200"/>
                  </a:lnTo>
                  <a:lnTo>
                    <a:pt x="10800" y="0"/>
                  </a:lnTo>
                  <a:lnTo>
                    <a:pt x="6171" y="7200"/>
                  </a:lnTo>
                  <a:lnTo>
                    <a:pt x="9257" y="7200"/>
                  </a:lnTo>
                  <a:lnTo>
                    <a:pt x="3086" y="14400"/>
                  </a:lnTo>
                  <a:lnTo>
                    <a:pt x="9257" y="144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33"/>
            <p:cNvSpPr/>
            <p:nvPr/>
          </p:nvSpPr>
          <p:spPr>
            <a:xfrm>
              <a:off x="1452600" y="2029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1206000" y="2121480"/>
              <a:ext cx="24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35"/>
            <p:cNvSpPr/>
            <p:nvPr/>
          </p:nvSpPr>
          <p:spPr>
            <a:xfrm>
              <a:off x="1821960" y="202932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36"/>
            <p:cNvSpPr/>
            <p:nvPr/>
          </p:nvSpPr>
          <p:spPr>
            <a:xfrm>
              <a:off x="652680" y="2214000"/>
              <a:ext cx="2030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ree"/>
          <p:cNvSpPr/>
          <p:nvPr/>
        </p:nvSpPr>
        <p:spPr>
          <a:xfrm>
            <a:off x="4500720" y="2852640"/>
            <a:ext cx="457200" cy="212760"/>
          </a:xfrm>
          <a:custGeom>
            <a:avLst/>
            <a:gdLst>
              <a:gd name="textAreaLeft" fmla="*/ 15840 w 457200"/>
              <a:gd name="textAreaRight" fmla="*/ 446040 w 457200"/>
              <a:gd name="textAreaTop" fmla="*/ 221400 h 212760"/>
              <a:gd name="textAreaBottom" fmla="*/ 279000 h 21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9257" y="216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21600"/>
                </a:lnTo>
                <a:lnTo>
                  <a:pt x="21600" y="21600"/>
                </a:lnTo>
                <a:lnTo>
                  <a:pt x="12343" y="14400"/>
                </a:lnTo>
                <a:lnTo>
                  <a:pt x="18514" y="14400"/>
                </a:lnTo>
                <a:lnTo>
                  <a:pt x="12343" y="7200"/>
                </a:lnTo>
                <a:lnTo>
                  <a:pt x="15429" y="7200"/>
                </a:lnTo>
                <a:lnTo>
                  <a:pt x="10800" y="0"/>
                </a:lnTo>
                <a:lnTo>
                  <a:pt x="6171" y="7200"/>
                </a:lnTo>
                <a:lnTo>
                  <a:pt x="9257" y="7200"/>
                </a:lnTo>
                <a:lnTo>
                  <a:pt x="3086" y="14400"/>
                </a:lnTo>
                <a:lnTo>
                  <a:pt x="9257" y="14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0"/>
          <p:cNvSpPr/>
          <p:nvPr/>
        </p:nvSpPr>
        <p:spPr>
          <a:xfrm flipH="1" flipV="1">
            <a:off x="6588000" y="2781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9"/>
          <p:cNvSpPr/>
          <p:nvPr/>
        </p:nvSpPr>
        <p:spPr>
          <a:xfrm>
            <a:off x="6804000" y="2924280"/>
            <a:ext cx="457200" cy="212760"/>
          </a:xfrm>
          <a:custGeom>
            <a:avLst/>
            <a:gdLst>
              <a:gd name="textAreaLeft" fmla="*/ 15840 w 457200"/>
              <a:gd name="textAreaRight" fmla="*/ 446040 w 457200"/>
              <a:gd name="textAreaTop" fmla="*/ 221400 h 212760"/>
              <a:gd name="textAreaBottom" fmla="*/ 279000 h 21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9257" y="216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21600"/>
                </a:lnTo>
                <a:lnTo>
                  <a:pt x="21600" y="21600"/>
                </a:lnTo>
                <a:lnTo>
                  <a:pt x="12343" y="14400"/>
                </a:lnTo>
                <a:lnTo>
                  <a:pt x="18514" y="14400"/>
                </a:lnTo>
                <a:lnTo>
                  <a:pt x="12343" y="7200"/>
                </a:lnTo>
                <a:lnTo>
                  <a:pt x="15429" y="7200"/>
                </a:lnTo>
                <a:lnTo>
                  <a:pt x="10800" y="0"/>
                </a:lnTo>
                <a:lnTo>
                  <a:pt x="6171" y="7200"/>
                </a:lnTo>
                <a:lnTo>
                  <a:pt x="9257" y="7200"/>
                </a:lnTo>
                <a:lnTo>
                  <a:pt x="3086" y="14400"/>
                </a:lnTo>
                <a:lnTo>
                  <a:pt x="9257" y="14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1"/>
          <p:cNvSpPr/>
          <p:nvPr/>
        </p:nvSpPr>
        <p:spPr>
          <a:xfrm>
            <a:off x="5003640" y="2852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3"/>
          <p:cNvSpPr/>
          <p:nvPr/>
        </p:nvSpPr>
        <p:spPr>
          <a:xfrm>
            <a:off x="3780000" y="310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4"/>
          <p:cNvSpPr/>
          <p:nvPr/>
        </p:nvSpPr>
        <p:spPr>
          <a:xfrm>
            <a:off x="0" y="2716920"/>
            <a:ext cx="259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5"/>
          <p:cNvSpPr/>
          <p:nvPr/>
        </p:nvSpPr>
        <p:spPr>
          <a:xfrm>
            <a:off x="4643280" y="2761200"/>
            <a:ext cx="381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 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324000" y="3645000"/>
            <a:ext cx="62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двух различных пунктов , и второй идёт вслед за перв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8"/>
          <p:cNvGrpSpPr/>
          <p:nvPr/>
        </p:nvGrpSpPr>
        <p:grpSpPr>
          <a:xfrm>
            <a:off x="431640" y="4390920"/>
            <a:ext cx="4267440" cy="685800"/>
            <a:chOff x="431640" y="4390920"/>
            <a:chExt cx="4267440" cy="685800"/>
          </a:xfrm>
        </p:grpSpPr>
        <p:sp>
          <p:nvSpPr>
            <p:cNvPr id="348" name="AutoShape 49"/>
            <p:cNvSpPr/>
            <p:nvPr/>
          </p:nvSpPr>
          <p:spPr>
            <a:xfrm>
              <a:off x="431640" y="4390920"/>
              <a:ext cx="4267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0"/>
            <p:cNvSpPr/>
            <p:nvPr/>
          </p:nvSpPr>
          <p:spPr>
            <a:xfrm>
              <a:off x="736200" y="47332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ree"/>
            <p:cNvSpPr/>
            <p:nvPr/>
          </p:nvSpPr>
          <p:spPr>
            <a:xfrm>
              <a:off x="736200" y="4408200"/>
              <a:ext cx="342360" cy="211680"/>
            </a:xfrm>
            <a:custGeom>
              <a:avLst/>
              <a:gdLst>
                <a:gd name="textAreaLeft" fmla="*/ 11880 w 342360"/>
                <a:gd name="textAreaRight" fmla="*/ 334080 w 342360"/>
                <a:gd name="textAreaTop" fmla="*/ 220320 h 211680"/>
                <a:gd name="textAreaBottom" fmla="*/ 277560 h 21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9257" y="216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21600"/>
                  </a:lnTo>
                  <a:lnTo>
                    <a:pt x="21600" y="21600"/>
                  </a:lnTo>
                  <a:lnTo>
                    <a:pt x="12343" y="14400"/>
                  </a:lnTo>
                  <a:lnTo>
                    <a:pt x="18514" y="14400"/>
                  </a:lnTo>
                  <a:lnTo>
                    <a:pt x="12343" y="7200"/>
                  </a:lnTo>
                  <a:lnTo>
                    <a:pt x="15429" y="7200"/>
                  </a:lnTo>
                  <a:lnTo>
                    <a:pt x="10800" y="0"/>
                  </a:lnTo>
                  <a:lnTo>
                    <a:pt x="6171" y="7200"/>
                  </a:lnTo>
                  <a:lnTo>
                    <a:pt x="9257" y="7200"/>
                  </a:lnTo>
                  <a:lnTo>
                    <a:pt x="3086" y="14400"/>
                  </a:lnTo>
                  <a:lnTo>
                    <a:pt x="9257" y="144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ree"/>
            <p:cNvSpPr/>
            <p:nvPr/>
          </p:nvSpPr>
          <p:spPr>
            <a:xfrm>
              <a:off x="2869920" y="4390920"/>
              <a:ext cx="342360" cy="210960"/>
            </a:xfrm>
            <a:custGeom>
              <a:avLst/>
              <a:gdLst>
                <a:gd name="textAreaLeft" fmla="*/ 11880 w 342360"/>
                <a:gd name="textAreaRight" fmla="*/ 334080 w 342360"/>
                <a:gd name="textAreaTop" fmla="*/ 219600 h 210960"/>
                <a:gd name="textAreaBottom" fmla="*/ 276840 h 2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9257" y="216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21600"/>
                  </a:lnTo>
                  <a:lnTo>
                    <a:pt x="21600" y="21600"/>
                  </a:lnTo>
                  <a:lnTo>
                    <a:pt x="12343" y="14400"/>
                  </a:lnTo>
                  <a:lnTo>
                    <a:pt x="18514" y="14400"/>
                  </a:lnTo>
                  <a:lnTo>
                    <a:pt x="12343" y="7200"/>
                  </a:lnTo>
                  <a:lnTo>
                    <a:pt x="15429" y="7200"/>
                  </a:lnTo>
                  <a:lnTo>
                    <a:pt x="10800" y="0"/>
                  </a:lnTo>
                  <a:lnTo>
                    <a:pt x="6171" y="7200"/>
                  </a:lnTo>
                  <a:lnTo>
                    <a:pt x="9257" y="7200"/>
                  </a:lnTo>
                  <a:lnTo>
                    <a:pt x="3086" y="14400"/>
                  </a:lnTo>
                  <a:lnTo>
                    <a:pt x="9257" y="144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3"/>
            <p:cNvSpPr/>
            <p:nvPr/>
          </p:nvSpPr>
          <p:spPr>
            <a:xfrm>
              <a:off x="1193760" y="4523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4"/>
            <p:cNvSpPr/>
            <p:nvPr/>
          </p:nvSpPr>
          <p:spPr>
            <a:xfrm>
              <a:off x="3251520" y="4575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55"/>
          <p:cNvSpPr/>
          <p:nvPr/>
        </p:nvSpPr>
        <p:spPr>
          <a:xfrm>
            <a:off x="395280" y="515628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одного пункта в одном направ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56"/>
          <p:cNvGrpSpPr/>
          <p:nvPr/>
        </p:nvGrpSpPr>
        <p:grpSpPr>
          <a:xfrm>
            <a:off x="431640" y="5486400"/>
            <a:ext cx="3962520" cy="800280"/>
            <a:chOff x="431640" y="5486400"/>
            <a:chExt cx="3962520" cy="800280"/>
          </a:xfrm>
        </p:grpSpPr>
        <p:sp>
          <p:nvSpPr>
            <p:cNvPr id="356" name="AutoShape 57"/>
            <p:cNvSpPr/>
            <p:nvPr/>
          </p:nvSpPr>
          <p:spPr>
            <a:xfrm>
              <a:off x="431640" y="5486400"/>
              <a:ext cx="3962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58"/>
            <p:cNvSpPr/>
            <p:nvPr/>
          </p:nvSpPr>
          <p:spPr>
            <a:xfrm>
              <a:off x="1650600" y="5828760"/>
              <a:ext cx="75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59"/>
            <p:cNvSpPr/>
            <p:nvPr/>
          </p:nvSpPr>
          <p:spPr>
            <a:xfrm>
              <a:off x="889200" y="59439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ree"/>
            <p:cNvSpPr/>
            <p:nvPr/>
          </p:nvSpPr>
          <p:spPr>
            <a:xfrm>
              <a:off x="1574280" y="5600160"/>
              <a:ext cx="343440" cy="212040"/>
            </a:xfrm>
            <a:custGeom>
              <a:avLst/>
              <a:gdLst>
                <a:gd name="textAreaLeft" fmla="*/ 11880 w 343440"/>
                <a:gd name="textAreaRight" fmla="*/ 335160 w 343440"/>
                <a:gd name="textAreaTop" fmla="*/ 220680 h 212040"/>
                <a:gd name="textAreaBottom" fmla="*/ 277920 h 21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9257" y="216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21600"/>
                  </a:lnTo>
                  <a:lnTo>
                    <a:pt x="21600" y="21600"/>
                  </a:lnTo>
                  <a:lnTo>
                    <a:pt x="12343" y="14400"/>
                  </a:lnTo>
                  <a:lnTo>
                    <a:pt x="18514" y="14400"/>
                  </a:lnTo>
                  <a:lnTo>
                    <a:pt x="12343" y="7200"/>
                  </a:lnTo>
                  <a:lnTo>
                    <a:pt x="15429" y="7200"/>
                  </a:lnTo>
                  <a:lnTo>
                    <a:pt x="10800" y="0"/>
                  </a:lnTo>
                  <a:lnTo>
                    <a:pt x="6171" y="7200"/>
                  </a:lnTo>
                  <a:lnTo>
                    <a:pt x="9257" y="7200"/>
                  </a:lnTo>
                  <a:lnTo>
                    <a:pt x="3086" y="14400"/>
                  </a:lnTo>
                  <a:lnTo>
                    <a:pt x="9257" y="144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61"/>
            <p:cNvSpPr/>
            <p:nvPr/>
          </p:nvSpPr>
          <p:spPr>
            <a:xfrm>
              <a:off x="2031840" y="5600160"/>
              <a:ext cx="456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2"/>
          <p:cNvSpPr txBox="1"/>
          <p:nvPr/>
        </p:nvSpPr>
        <p:spPr>
          <a:xfrm rot="4443000">
            <a:off x="-1719360" y="3090600"/>
            <a:ext cx="6853320" cy="671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7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сятичные  дроби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62" name="WordArt 3"/>
          <p:cNvSpPr txBox="1"/>
          <p:nvPr/>
        </p:nvSpPr>
        <p:spPr>
          <a:xfrm>
            <a:off x="3635280" y="47628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812f"/>
                    </a:gs>
                    <a:gs pos="100000">
                      <a:srgbClr val="996600"/>
                    </a:gs>
                  </a:gsLst>
                  <a:lin ang="5400000"/>
                </a:gradFill>
                <a:latin typeface="Impact"/>
              </a:rPr>
              <a:t>Из  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812f"/>
                  </a:gs>
                  <a:gs pos="100000">
                    <a:srgbClr val="99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2771640" y="3500280"/>
            <a:ext cx="61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же несколько тысячелетий человечество пользуется дробными числами, а вот записывать их удобными десятичными знаками оно додумалось значительно позж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0199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an6"/>
          <p:cNvPicPr/>
          <p:nvPr/>
        </p:nvPicPr>
        <p:blipFill>
          <a:blip r:embed="rId1"/>
          <a:stretch/>
        </p:blipFill>
        <p:spPr>
          <a:xfrm>
            <a:off x="6705720" y="1600200"/>
            <a:ext cx="1981080" cy="1844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7"/>
          <p:cNvSpPr/>
          <p:nvPr/>
        </p:nvSpPr>
        <p:spPr>
          <a:xfrm>
            <a:off x="4500720" y="249228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an6"/>
          <p:cNvPicPr/>
          <p:nvPr/>
        </p:nvPicPr>
        <p:blipFill>
          <a:blip r:embed="rId1"/>
          <a:stretch/>
        </p:blipFill>
        <p:spPr>
          <a:xfrm>
            <a:off x="250920" y="836640"/>
            <a:ext cx="1873080" cy="18730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"/>
          <p:cNvSpPr/>
          <p:nvPr/>
        </p:nvSpPr>
        <p:spPr>
          <a:xfrm>
            <a:off x="1763640" y="836640"/>
            <a:ext cx="705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Древнем Китае уже пользовались десятичной системой мер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значали дробь словами, используя </a:t>
            </a:r>
            <a:br>
              <a:rPr sz="4000"/>
            </a:b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меры длины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 Ч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цуни, доли, порядковые, шерстинки, тончайшие, паутин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Tahoma"/>
                <a:ea typeface="Times New Roman"/>
              </a:rPr>
              <a:t>Дробь</a:t>
            </a:r>
            <a:r>
              <a:rPr b="1" lang="ru-RU" sz="3800" spc="-1" strike="noStrike">
                <a:solidFill>
                  <a:srgbClr val="006633"/>
                </a:solidFill>
                <a:latin typeface="Tahoma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Tahoma"/>
                <a:ea typeface="Times New Roman"/>
              </a:rPr>
              <a:t>вида 2,135436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Garamond"/>
              </a:rPr>
              <a:t>выглядела так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116000" y="1557360"/>
            <a:ext cx="781380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2 чи,  1 цунь,  3 доли,  5 порядковых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4 шерстинки, 3 тончайших,  6 паутин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5638680" y="2362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825560" y="4896000"/>
            <a:ext cx="169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 чжан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521160" y="4896000"/>
            <a:ext cx="11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 ч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618080" y="4896000"/>
            <a:ext cx="14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 цу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6041880" y="4896000"/>
            <a:ext cx="162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5 доле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124000" y="542772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порядковы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788000" y="544500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 шерстин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2268360" y="5950080"/>
            <a:ext cx="25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6 тончайши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88000" y="5950080"/>
            <a:ext cx="23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утин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23640" y="2852280"/>
            <a:ext cx="8497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V веке китайский учены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Цзю-Чун-Чж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нял за единицу н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 а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ЖА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Дробь</a:t>
            </a:r>
            <a:r>
              <a:rPr b="1" lang="ru-RU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вида 2,135436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ыглядела так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4" descr="an6"/>
          <p:cNvPicPr/>
          <p:nvPr/>
        </p:nvPicPr>
        <p:blipFill>
          <a:blip r:embed="rId1"/>
          <a:stretch/>
        </p:blipFill>
        <p:spPr>
          <a:xfrm>
            <a:off x="6659640" y="92160"/>
            <a:ext cx="212400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fon3"/>
          <p:cNvPicPr/>
          <p:nvPr/>
        </p:nvPicPr>
        <p:blipFill>
          <a:blip r:embed="rId1"/>
          <a:stretch/>
        </p:blipFill>
        <p:spPr>
          <a:xfrm>
            <a:off x="0" y="0"/>
            <a:ext cx="9325080" cy="72198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358920" y="13071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an6"/>
          <p:cNvPicPr/>
          <p:nvPr/>
        </p:nvPicPr>
        <p:blipFill>
          <a:blip r:embed="rId2"/>
          <a:stretch/>
        </p:blipFill>
        <p:spPr>
          <a:xfrm>
            <a:off x="108000" y="4230720"/>
            <a:ext cx="2233440" cy="236700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5"/>
          <p:cNvSpPr/>
          <p:nvPr/>
        </p:nvSpPr>
        <p:spPr>
          <a:xfrm>
            <a:off x="144360" y="260280"/>
            <a:ext cx="8891640" cy="3456000"/>
          </a:xfrm>
          <a:prstGeom prst="wedgeEllipseCallout">
            <a:avLst>
              <a:gd name="adj1" fmla="val -32199"/>
              <a:gd name="adj2" fmla="val 69384"/>
            </a:avLst>
          </a:prstGeom>
          <a:gradFill rotWithShape="0">
            <a:gsLst>
              <a:gs pos="0">
                <a:srgbClr val="cccc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ую дробь с помощ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 и определенных знаков попытался запис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аб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матик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ал-Уклисид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X 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"Книге разделов об индийской арифметике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6"/>
          <p:cNvSpPr/>
          <p:nvPr/>
        </p:nvSpPr>
        <p:spPr>
          <a:xfrm>
            <a:off x="2124000" y="3500280"/>
            <a:ext cx="6842160" cy="2951280"/>
          </a:xfrm>
          <a:prstGeom prst="ellipse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оторые эле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сятичной дроб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тречаются в труд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огих ученых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вроп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2 - 1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ка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826920" y="2349360"/>
            <a:ext cx="80978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61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 - шотландский математи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н Неп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ил отделять десятичные 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целого числа либо запятой, либо т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826920" y="8366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395280" y="1844640"/>
            <a:ext cx="80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9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 - в записи дробей впервые встречается запя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324000" y="260280"/>
            <a:ext cx="80978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7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ог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пл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едложил современную запись десятичных дробей, т.е. отделение целой части запятой. До него существовали другие варианты: 3,7 писали как 3(0)7 или 3\ 7 или разными чернилами целую и дробную ч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258920" y="3429000"/>
            <a:ext cx="76676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  - В России учение о десятичных дробях изложи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.Ф.Магниц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, в учеб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рифметика , сиречь наука числительна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1403280" y="4724280"/>
            <a:ext cx="7416720" cy="1873440"/>
          </a:xfrm>
          <a:prstGeom prst="cloudCallout">
            <a:avLst>
              <a:gd name="adj1" fmla="val -50472"/>
              <a:gd name="adj2" fmla="val -54407"/>
            </a:avLst>
          </a:prstGeom>
          <a:gradFill rotWithShape="0">
            <a:gsLst>
              <a:gs pos="0">
                <a:srgbClr val="cccc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В странах, где говорят по-английски (Англия, США, Канада и др.), и сейчас вместо запятой пишут точку, например: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n6"/>
          <p:cNvPicPr/>
          <p:nvPr/>
        </p:nvPicPr>
        <p:blipFill>
          <a:blip r:embed="rId1"/>
          <a:stretch/>
        </p:blipFill>
        <p:spPr>
          <a:xfrm>
            <a:off x="-252360" y="4076640"/>
            <a:ext cx="212400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5651280" y="2636640"/>
            <a:ext cx="331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Arial"/>
              </a:rPr>
              <a:t>В обсерватории работали лучшие умы того време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Arial"/>
              </a:rPr>
              <a:t>В ней производились наблюдения за движением звезд , планет и Солнца , вычислялись дни праздников и т.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Arial"/>
              </a:rPr>
              <a:t>В этой работе необходимы были десятичные дроб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3" descr="аль-Коши рисунок"/>
          <p:cNvPicPr/>
          <p:nvPr/>
        </p:nvPicPr>
        <p:blipFill>
          <a:blip r:embed="rId4"/>
          <a:stretch/>
        </p:blipFill>
        <p:spPr>
          <a:xfrm>
            <a:off x="1187280" y="3213000"/>
            <a:ext cx="3330720" cy="33847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4"/>
          <p:cNvSpPr/>
          <p:nvPr/>
        </p:nvSpPr>
        <p:spPr>
          <a:xfrm>
            <a:off x="990720" y="49528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5"/>
          <a:stretch/>
        </p:blipFill>
        <p:spPr>
          <a:xfrm>
            <a:off x="6372360" y="476280"/>
            <a:ext cx="1942920" cy="18874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250920" y="404640"/>
            <a:ext cx="5833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Arial"/>
              </a:rPr>
              <a:t>В начале XV века  в городе Самарканд была создана большая обсерва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179280" y="1197000"/>
            <a:ext cx="597708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Arial"/>
              </a:rPr>
              <a:t>Руководил е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Джемшид ибн-Масуд аль-Коши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Arial"/>
              </a:rPr>
              <a:t>иногда его назы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812f"/>
                </a:solidFill>
                <a:latin typeface="Arial"/>
                <a:ea typeface="Arial"/>
              </a:rPr>
              <a:t>Гиясседдин аль-Ко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Arial"/>
              </a:rPr>
              <a:t>(дата рождения неизвест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SY01265_"/>
          <p:cNvPicPr/>
          <p:nvPr/>
        </p:nvPicPr>
        <p:blipFill>
          <a:blip r:embed="rId6"/>
          <a:stretch/>
        </p:blipFill>
        <p:spPr>
          <a:xfrm>
            <a:off x="228600" y="6248520"/>
            <a:ext cx="53352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fon3"/>
          <p:cNvPicPr/>
          <p:nvPr/>
        </p:nvPicPr>
        <p:blipFill>
          <a:blip r:embed="rId1"/>
          <a:stretch/>
        </p:blipFill>
        <p:spPr>
          <a:xfrm>
            <a:off x="0" y="0"/>
            <a:ext cx="9325080" cy="72198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900000" y="42944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324000" y="404640"/>
            <a:ext cx="8496000" cy="1872000"/>
          </a:xfrm>
          <a:prstGeom prst="wedgeRectCallout">
            <a:avLst>
              <a:gd name="adj1" fmla="val -35032"/>
              <a:gd name="adj2" fmla="val 96393"/>
            </a:avLst>
          </a:prstGeom>
          <a:gradFill rotWithShape="0">
            <a:gsLst>
              <a:gs pos="0">
                <a:srgbClr val="cccc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но в это же время математики Европы также пытались найти удобную запись десятичной дроб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an6"/>
          <p:cNvPicPr/>
          <p:nvPr/>
        </p:nvPicPr>
        <p:blipFill>
          <a:blip r:embed="rId2"/>
          <a:stretch/>
        </p:blipFill>
        <p:spPr>
          <a:xfrm>
            <a:off x="0" y="2997360"/>
            <a:ext cx="2268360" cy="251928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6"/>
          <p:cNvSpPr/>
          <p:nvPr/>
        </p:nvSpPr>
        <p:spPr>
          <a:xfrm>
            <a:off x="2411280" y="2965320"/>
            <a:ext cx="6551640" cy="3728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ниге "Математический канон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ранцузского математи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. Виета (1540-1603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сятичная дробь записана та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000" spc="-1" strike="noStrike" u="sng" baseline="30000">
                <a:solidFill>
                  <a:srgbClr val="000000"/>
                </a:solidFill>
                <a:uFillTx/>
                <a:latin typeface="Arial"/>
              </a:rPr>
              <a:t>13543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дробная часть подчеркивалась и записывалась выше строки целой части чис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9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"/>
          <p:cNvSpPr/>
          <p:nvPr/>
        </p:nvSpPr>
        <p:spPr>
          <a:xfrm>
            <a:off x="971640" y="1989000"/>
            <a:ext cx="7777080" cy="309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меть выполнять сложение ,вычитание и округл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есятичных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2.Проверить усвоение материал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ученной теме, подготовиться к контроль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lady_news_anchor_md_wht"/>
          <p:cNvPicPr/>
          <p:nvPr/>
        </p:nvPicPr>
        <p:blipFill>
          <a:blip r:embed="rId2"/>
          <a:stretch/>
        </p:blipFill>
        <p:spPr>
          <a:xfrm>
            <a:off x="250920" y="333360"/>
            <a:ext cx="2232000" cy="191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v25ani"/>
          <p:cNvPicPr/>
          <p:nvPr/>
        </p:nvPicPr>
        <p:blipFill>
          <a:blip r:embed="rId3"/>
          <a:stretch/>
        </p:blipFill>
        <p:spPr>
          <a:xfrm>
            <a:off x="6516720" y="155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03" name="1zv.wav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00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50920" y="3251880"/>
            <a:ext cx="6626160" cy="3160440"/>
          </a:xfrm>
          <a:prstGeom prst="wedgeRoundRectCallout">
            <a:avLst>
              <a:gd name="adj1" fmla="val 58310"/>
              <a:gd name="adj2" fmla="val -16449"/>
              <a:gd name="adj3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ей книге "Десятая" он не только излагает теорию десятичных дробей, но и старается убедить людей пользоваться ими, говоря, что при их использовании "изживаются трудности, распри, ошибки, потери и прочие случайности, обычные спутники расчетов". Его и считают изобретателем десятичных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0" y="378360"/>
            <a:ext cx="8893080" cy="27151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Лишь в конце XVI  века мысль записывать дробные числа десятичными знаками пришла некоему </a:t>
            </a: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иСимону Стевину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из Фландрии. В своей книге "Десятая" (1585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он излагает теорию десятичных дробей и предлаг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писать цифры дробного числа в одну строку с цифрами целого числа, при этом нумеруя их. Например, число записывалось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0,3752 =                                или 5,1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an6"/>
          <p:cNvPicPr/>
          <p:nvPr/>
        </p:nvPicPr>
        <p:blipFill>
          <a:blip r:embed="rId1"/>
          <a:stretch/>
        </p:blipFill>
        <p:spPr>
          <a:xfrm>
            <a:off x="6804000" y="3860640"/>
            <a:ext cx="2124000" cy="1824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2"/>
          <a:stretch/>
        </p:blipFill>
        <p:spPr>
          <a:xfrm>
            <a:off x="6324480" y="2684520"/>
            <a:ext cx="1524240" cy="363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3"/>
          <a:stretch/>
        </p:blipFill>
        <p:spPr>
          <a:xfrm>
            <a:off x="2666880" y="2687760"/>
            <a:ext cx="198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75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75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780000" y="692280"/>
            <a:ext cx="5040000" cy="58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вёл в Европе в употребление десятичные дроби, сделав важное открытие, независим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т ал-Каши, о чем написал в своей книге «Десятая». Эта работа (всего 7 страниц) содержала объяснение записи и правил действий с десятичными дробями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меет труды по гидростатике и навигаци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С"/>
          <p:cNvPicPr/>
          <p:nvPr/>
        </p:nvPicPr>
        <p:blipFill>
          <a:blip r:embed="rId1"/>
          <a:stretch/>
        </p:blipFill>
        <p:spPr>
          <a:xfrm>
            <a:off x="395280" y="549360"/>
            <a:ext cx="3097080" cy="32400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4"/>
          <p:cNvSpPr/>
          <p:nvPr/>
        </p:nvSpPr>
        <p:spPr>
          <a:xfrm>
            <a:off x="468360" y="3789360"/>
            <a:ext cx="324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он Стев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548-1620) из Фландр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теперь Голландия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упец и выдающийся инженер-учё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SY01265_"/>
          <p:cNvPicPr/>
          <p:nvPr/>
        </p:nvPicPr>
        <p:blipFill>
          <a:blip r:embed="rId2"/>
          <a:stretch/>
        </p:blipFill>
        <p:spPr>
          <a:xfrm>
            <a:off x="228600" y="6248520"/>
            <a:ext cx="53352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solidFill>
            <a:srgbClr val="89d8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ст с выбором отве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ffff"/>
          </a:solidFill>
          <a:ln w="9360">
            <a:solidFill>
              <a:srgbClr val="afbf3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ариант 1                                                                             Вариант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Выполните сложение :4,1+2,51                       |       8,32+1,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2,92   б)6,52    в)6,61                                        |       а)9,37     б)9,82    в)8,4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Выполните вычитание:  13,1- 2,51                |         19,4- 7,8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11,59     б)10,59        в)11,5                       |                а)11,57    б)12,57   г)12,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Выполните действия :3,57+2,23-4,8              |     4,46-2,7+1,3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10,6           б)1                в)5,8                         |       а)3       б)8,5        в)3,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.Округлите число 15,9476 до сотых             |      21,3642 до соты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15,948      б)15,95     в)15,9                            |      а)21,364   б)21,37   в) 21,36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5.Решите       уравнение  и  результат  округлите     до         десяты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8,78+х =11,676                                                |     х+2,68 =8,368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  2,8        б)2,9          в)2,89                             |      а)5,7       б)5,69       г)5,6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89d8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тветы  к тест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61ffd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вариант:1-в;  2-б; 3-б; 4-б; 5-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вариант:   1-б; 2-а;  3-в; 4-в  ;5-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аблица  для работы в пар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692360" y="1268280"/>
          <a:ext cx="6335640" cy="4530960"/>
        </p:xfrm>
        <a:graphic>
          <a:graphicData uri="http://schemas.openxmlformats.org/drawingml/2006/table">
            <a:tbl>
              <a:tblPr/>
              <a:tblGrid>
                <a:gridCol w="2303280"/>
                <a:gridCol w="1944720"/>
                <a:gridCol w="208764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d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d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d8f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d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d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d8ff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9d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9d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9d8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веты к таблиц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расположения по возрастанию:1,301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,564;2,5;2,51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9,825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3,11;15,64;25,1;98,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995640" y="1628640"/>
          <a:ext cx="5040360" cy="4530960"/>
        </p:xfrm>
        <a:graphic>
          <a:graphicData uri="http://schemas.openxmlformats.org/drawingml/2006/table">
            <a:tbl>
              <a:tblPr/>
              <a:tblGrid>
                <a:gridCol w="1243080"/>
                <a:gridCol w="1241280"/>
                <a:gridCol w="1243080"/>
                <a:gridCol w="1312920"/>
              </a:tblGrid>
              <a:tr h="90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ариан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вариан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0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4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9d8ff"/>
            </a:gs>
            <a:gs pos="50000">
              <a:srgbClr val="61ffd6"/>
            </a:gs>
            <a:gs pos="100000">
              <a:srgbClr val="89d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2"/>
          <p:cNvSpPr/>
          <p:nvPr/>
        </p:nvSpPr>
        <p:spPr>
          <a:xfrm>
            <a:off x="2050920" y="2492280"/>
            <a:ext cx="4319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«Заяц занял второе место, а лось был первы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WordArt 4"/>
          <p:cNvSpPr txBox="1"/>
          <p:nvPr/>
        </p:nvSpPr>
        <p:spPr>
          <a:xfrm>
            <a:off x="2195640" y="260280"/>
            <a:ext cx="48243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Логическая задач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981000"/>
            <a:ext cx="874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лесу проводился кросс. Обсуждая его итоги, одна белка  сказала: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белка"/>
          <p:cNvPicPr/>
          <p:nvPr/>
        </p:nvPicPr>
        <p:blipFill>
          <a:blip r:embed="rId3"/>
          <a:srcRect l="5227" t="3197" r="6316" b="12942"/>
          <a:stretch/>
        </p:blipFill>
        <p:spPr>
          <a:xfrm>
            <a:off x="971640" y="2133720"/>
            <a:ext cx="1108080" cy="1152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белка"/>
          <p:cNvPicPr/>
          <p:nvPr/>
        </p:nvPicPr>
        <p:blipFill>
          <a:blip r:embed="rId4"/>
          <a:srcRect l="5227" t="3197" r="6316" b="12942"/>
          <a:stretch/>
        </p:blipFill>
        <p:spPr>
          <a:xfrm>
            <a:off x="0" y="1413000"/>
            <a:ext cx="1150920" cy="11523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0"/>
          <p:cNvSpPr/>
          <p:nvPr/>
        </p:nvSpPr>
        <p:spPr>
          <a:xfrm>
            <a:off x="1187280" y="148428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«Первое место занял зая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а второй была лис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4284720" y="2924280"/>
            <a:ext cx="4572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 что филин заметил, что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высказывании каждой белки одна часть верная, а другая – 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то был первым и кто вторы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2268360" y="2060640"/>
            <a:ext cx="22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а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зразила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7" descr=""/>
          <p:cNvPicPr/>
          <p:nvPr/>
        </p:nvPicPr>
        <p:blipFill>
          <a:blip r:embed="rId5"/>
          <a:stretch/>
        </p:blipFill>
        <p:spPr>
          <a:xfrm>
            <a:off x="684360" y="5210280"/>
            <a:ext cx="2990880" cy="164772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19">
            <a:hlinkClick r:id="" action="ppaction://hlinkshowjump?jump=nextslide"/>
          </p:cNvPr>
          <p:cNvSpPr/>
          <p:nvPr/>
        </p:nvSpPr>
        <p:spPr>
          <a:xfrm>
            <a:off x="6948360" y="6165720"/>
            <a:ext cx="468360" cy="28764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5154" h="21600">
                <a:moveTo>
                  <a:pt x="0" y="0"/>
                </a:moveTo>
                <a:lnTo>
                  <a:pt x="35154" y="0"/>
                </a:lnTo>
                <a:lnTo>
                  <a:pt x="35154" y="21600"/>
                </a:lnTo>
                <a:lnTo>
                  <a:pt x="0" y="21600"/>
                </a:lnTo>
                <a:close/>
              </a:path>
              <a:path fill="lightenLess" w="35154" h="21600">
                <a:moveTo>
                  <a:pt x="0" y="0"/>
                </a:moveTo>
                <a:lnTo>
                  <a:pt x="35154" y="0"/>
                </a:lnTo>
                <a:lnTo>
                  <a:pt x="33754" y="1400"/>
                </a:lnTo>
                <a:lnTo>
                  <a:pt x="1400" y="1400"/>
                </a:lnTo>
                <a:close/>
              </a:path>
              <a:path fill="darken" w="35154" h="21600">
                <a:moveTo>
                  <a:pt x="35154" y="0"/>
                </a:moveTo>
                <a:lnTo>
                  <a:pt x="35154" y="21600"/>
                </a:lnTo>
                <a:lnTo>
                  <a:pt x="33754" y="20200"/>
                </a:lnTo>
                <a:lnTo>
                  <a:pt x="33754" y="1400"/>
                </a:lnTo>
                <a:close/>
              </a:path>
              <a:path fill="darkenLess" w="35154" h="21600">
                <a:moveTo>
                  <a:pt x="35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54" y="20200"/>
                </a:lnTo>
                <a:close/>
              </a:path>
              <a:path fill="lighten" w="35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54" h="21600">
                <a:moveTo>
                  <a:pt x="10571" y="3794"/>
                </a:moveTo>
                <a:lnTo>
                  <a:pt x="24583" y="10800"/>
                </a:lnTo>
                <a:lnTo>
                  <a:pt x="10571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20"/>
          <p:cNvSpPr/>
          <p:nvPr/>
        </p:nvSpPr>
        <p:spPr>
          <a:xfrm>
            <a:off x="7667640" y="630864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16220" y="3837"/>
                </a:moveTo>
                <a:lnTo>
                  <a:pt x="18797" y="6448"/>
                </a:ln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lnTo>
                  <a:pt x="23183" y="10800"/>
                </a:lnTo>
                <a:lnTo>
                  <a:pt x="21530" y="10800"/>
                </a:lnTo>
                <a:lnTo>
                  <a:pt x="21530" y="17989"/>
                </a:lnTo>
                <a:lnTo>
                  <a:pt x="10911" y="17989"/>
                </a:lnTo>
                <a:lnTo>
                  <a:pt x="10911" y="10800"/>
                </a:lnTo>
                <a:lnTo>
                  <a:pt x="9257" y="10800"/>
                </a:lnTo>
                <a:close/>
              </a:path>
              <a:path fill="darkenLess" w="32441" h="21600">
                <a:moveTo>
                  <a:pt x="18797" y="6448"/>
                </a:move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close/>
              </a:path>
              <a:path fill="darkenLess" w="32441" h="21600">
                <a:moveTo>
                  <a:pt x="15298" y="14299"/>
                </a:moveTo>
                <a:lnTo>
                  <a:pt x="17143" y="14299"/>
                </a:lnTo>
                <a:lnTo>
                  <a:pt x="17143" y="17989"/>
                </a:lnTo>
                <a:lnTo>
                  <a:pt x="21530" y="17989"/>
                </a:lnTo>
                <a:lnTo>
                  <a:pt x="21530" y="10800"/>
                </a:lnTo>
                <a:lnTo>
                  <a:pt x="10911" y="10800"/>
                </a:lnTo>
                <a:lnTo>
                  <a:pt x="10911" y="17989"/>
                </a:lnTo>
                <a:lnTo>
                  <a:pt x="15298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1" descr="348"/>
          <p:cNvPicPr/>
          <p:nvPr/>
        </p:nvPicPr>
        <p:blipFill>
          <a:blip r:embed="rId6"/>
          <a:stretch/>
        </p:blipFill>
        <p:spPr>
          <a:xfrm>
            <a:off x="3276720" y="2781360"/>
            <a:ext cx="1017360" cy="1285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4" descr="заяц"/>
          <p:cNvPicPr/>
          <p:nvPr/>
        </p:nvPicPr>
        <p:blipFill>
          <a:blip r:embed="rId7"/>
          <a:srcRect l="20225" t="7577" r="10560" b="9259"/>
          <a:stretch/>
        </p:blipFill>
        <p:spPr>
          <a:xfrm>
            <a:off x="2484360" y="4005360"/>
            <a:ext cx="1727280" cy="1584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5" descr="лиса"/>
          <p:cNvPicPr/>
          <p:nvPr/>
        </p:nvPicPr>
        <p:blipFill>
          <a:blip r:embed="rId8"/>
          <a:srcRect l="4521" t="7762" r="7646" b="7033"/>
          <a:stretch/>
        </p:blipFill>
        <p:spPr>
          <a:xfrm>
            <a:off x="6443640" y="436572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6" descr="лось"/>
          <p:cNvPicPr/>
          <p:nvPr/>
        </p:nvPicPr>
        <p:blipFill>
          <a:blip r:embed="rId9"/>
          <a:srcRect l="10403" t="18585" r="6821" b="16194"/>
          <a:stretch/>
        </p:blipFill>
        <p:spPr>
          <a:xfrm>
            <a:off x="4356000" y="4076640"/>
            <a:ext cx="1960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15607E-006 C -0.00765 -0.01549 -0.0033 -0.01017 -0.01164 -0.01757 C -0.01945 -0.03376 -0.00938 -0.0148 -0.0198 -0.02844 C -0.02119 -0.03029 -0.02153 -0.03329 -0.0231 -0.03491 C -0.02449 -0.0363 -0.0264 -0.03607 -0.02796 -0.03722 C -0.03143 -0.03977 -0.03785 -0.04578 -0.03785 -0.04578 C -0.04133 -0.06081 -0.03646 -0.0437 -0.04428 -0.05896 C -0.04532 -0.06081 -0.04515 -0.06358 -0.04601 -0.06543 C -0.04723 -0.06798 -0.04931 -0.06983 -0.05087 -0.07214 C -0.0514 -0.07422 -0.05157 -0.07676 -0.05261 -0.07861 C -0.05383 -0.08069 -0.05643 -0.08069 -0.05747 -0.083 C -0.05938 -0.08693 -0.05973 -0.09179 -0.06077 -0.09618 C -0.06146 -0.09873 -0.06303 -0.10058 -0.06407 -0.10266 C -0.06615 -0.11121 -0.0691 -0.11584 -0.07379 -0.12231 C -0.07622 -0.13156 -0.07917 -0.14104 -0.08525 -0.14636 C -0.08716 -0.15352 -0.09358 -0.16601 -0.09358 -0.16601 C -0.0974 -0.18173 -0.09185 -0.16347 -0.10001 -0.17688 C -0.10903 -0.19191 -0.09271 -0.17526 -0.1066 -0.18774 C -0.11442 -0.20324 -0.12674 -0.20855 -0.13942 -0.21387 C -0.1514 -0.21896 -0.14063 -0.21803 -0.15261 -0.22058 C -0.17067 -0.22428 -0.1882 -0.22566 -0.2066 -0.22705 C -0.23299 -0.23352 -0.25834 -0.24 -0.28525 -0.24231 C -0.30296 -0.24855 -0.32049 -0.2548 -0.33785 -0.26196 C -0.3533 -0.27584 -0.3757 -0.27699 -0.39358 -0.27954 C -0.40574 -0.28347 -0.42344 -0.28254 -0.43455 -0.27283 C -0.43785 -0.27006 -0.44098 -0.26705 -0.44428 -0.26428 C -0.44601 -0.26289 -0.44931 -0.25988 -0.44931 -0.25988 C -0.454 -0.23954 -0.44653 -0.26682 -0.45574 -0.24878 C -0.45695 -0.24624 -0.4566 -0.243 -0.45747 -0.24023 C -0.45834 -0.23769 -0.45973 -0.23584 -0.46077 -0.23352 C -0.46528 -0.21572 -0.46407 -0.2252 -0.46407 -0.20532 E">
                                      <p:cBhvr>
                                        <p:cTn id="681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3.64162E-006 C -0.00381 -0.00162 -0.00781 -0.00232 -0.01145 -0.0044 C -0.01701 -0.00763 -0.0217 -0.01272 -0.02777 -0.01526 C -0.0309 -0.0192 -0.03489 -0.02174 -0.03767 -0.02613 C -0.04843 -0.04255 -0.03906 -0.037 -0.04913 -0.04139 C -0.05833 -0.06012 -0.04618 -0.03862 -0.05729 -0.05018 C -0.0684 -0.06174 -0.05277 -0.05295 -0.06545 -0.05896 C -0.06961 -0.06428 -0.0743 -0.07168 -0.07864 -0.0763 C -0.08055 -0.07839 -0.08315 -0.07908 -0.08524 -0.0807 C -0.08697 -0.08209 -0.08854 -0.08347 -0.0901 -0.08509 C -0.09427 -0.08995 -0.09461 -0.09341 -0.09999 -0.09596 C -0.12395 -0.10775 -0.15034 -0.10844 -0.17534 -0.11145 C -0.21961 -0.11654 -0.26371 -0.11654 -0.30815 -0.11792 C -0.3394 -0.1163 -0.37048 -0.11515 -0.40156 -0.11145 C -0.40763 -0.10867 -0.41336 -0.10659 -0.41961 -0.10474 C -0.42447 -0.10035 -0.42934 -0.09966 -0.43437 -0.09596 C -0.45121 -0.08347 -0.43819 -0.09041 -0.44913 -0.08509 C -0.4526 -0.07839 -0.45659 -0.07538 -0.46232 -0.07214 C -0.46545 -0.07029 -0.46874 -0.06914 -0.47204 -0.06775 C -0.47378 -0.06706 -0.47708 -0.06544 -0.47708 -0.06544 C -0.48107 -0.04879 -0.47499 -0.06798 -0.4835 -0.05665 C -0.48472 -0.05503 -0.4842 -0.05203 -0.48524 -0.05018 C -0.48645 -0.04763 -0.48854 -0.04578 -0.4901 -0.0437 C -0.49357 -0.02867 -0.48923 -0.04555 -0.49496 -0.03052 C -0.49652 -0.02636 -0.496 -0.02104 -0.49826 -0.01735 C -0.49947 -0.01526 -0.50156 -0.01457 -0.50329 -0.01318 C -0.50381 -0.01018 -0.50381 -0.00717 -0.50486 -0.0044 C -0.50659 0.00023 -0.51145 0.00878 -0.51145 0.00878 C -0.51197 0.01086 -0.51302 0.01294 -0.51302 0.01526 C -0.51302 0.02127 -0.51145 0.03283 -0.51145 0.03283 E">
                                      <p:cBhvr>
                                        <p:cTn id="68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50000">
              <a:srgbClr val="ccff99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7"/>
          <p:cNvSpPr txBox="1"/>
          <p:nvPr/>
        </p:nvSpPr>
        <p:spPr>
          <a:xfrm>
            <a:off x="1547640" y="260280"/>
            <a:ext cx="5977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Этапы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5" name="Rectangle 8">
            <a:hlinkClick r:id="rId3" action="ppaction://hlinksldjump"/>
          </p:cNvPr>
          <p:cNvSpPr/>
          <p:nvPr/>
        </p:nvSpPr>
        <p:spPr>
          <a:xfrm>
            <a:off x="250920" y="3141720"/>
            <a:ext cx="26654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>
            <a:hlinkClick r:id="rId4" action="ppaction://hlinksldjump"/>
          </p:cNvPr>
          <p:cNvSpPr/>
          <p:nvPr/>
        </p:nvSpPr>
        <p:spPr>
          <a:xfrm>
            <a:off x="971640" y="1700280"/>
            <a:ext cx="26654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я д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>
            <a:hlinkClick r:id="rId5" action="ppaction://hlinksldjump"/>
          </p:cNvPr>
          <p:cNvSpPr/>
          <p:nvPr/>
        </p:nvSpPr>
        <p:spPr>
          <a:xfrm>
            <a:off x="1116000" y="4581360"/>
            <a:ext cx="266544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бота в па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>
            <a:hlinkClick r:id="rId6" action="ppaction://hlinksldjump"/>
          </p:cNvPr>
          <p:cNvSpPr/>
          <p:nvPr/>
        </p:nvSpPr>
        <p:spPr>
          <a:xfrm>
            <a:off x="4643280" y="1700280"/>
            <a:ext cx="352908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полнение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>
            <a:hlinkClick r:id="rId7" action="ppaction://hlinksldjump"/>
          </p:cNvPr>
          <p:cNvSpPr/>
          <p:nvPr/>
        </p:nvSpPr>
        <p:spPr>
          <a:xfrm>
            <a:off x="5940360" y="2997360"/>
            <a:ext cx="26654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>
            <a:hlinkClick r:id="rId8" action="ppaction://hlinksldjump"/>
          </p:cNvPr>
          <p:cNvSpPr/>
          <p:nvPr/>
        </p:nvSpPr>
        <p:spPr>
          <a:xfrm>
            <a:off x="5076720" y="4581360"/>
            <a:ext cx="266544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b31"/>
          <p:cNvPicPr/>
          <p:nvPr/>
        </p:nvPicPr>
        <p:blipFill>
          <a:blip r:embed="rId9"/>
          <a:stretch/>
        </p:blipFill>
        <p:spPr>
          <a:xfrm>
            <a:off x="7812000" y="189000"/>
            <a:ext cx="103356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63640" y="333360"/>
            <a:ext cx="7058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стория дроб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348000" y="162864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ое понятие дроби появилось в древнем Егип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3284640"/>
            <a:ext cx="54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о «дробь» от слова «дробить, разбивать, ломать на ча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0920" y="49417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ть поговорка: «Попасть в дроби», что означает у немцев «Попасть в трудное положение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3" action="ppaction://hlinksldjump"/>
          </p:cNvPr>
          <p:cNvSpPr/>
          <p:nvPr/>
        </p:nvSpPr>
        <p:spPr>
          <a:xfrm>
            <a:off x="7596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2" y="4707"/>
                </a:lnTo>
                <a:lnTo>
                  <a:pt x="17812" y="8224"/>
                </a:lnTo>
                <a:lnTo>
                  <a:pt x="20423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2" y="4707"/>
                </a:lnTo>
                <a:lnTo>
                  <a:pt x="17812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630864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book"/>
          <p:cNvPicPr/>
          <p:nvPr/>
        </p:nvPicPr>
        <p:blipFill>
          <a:blip r:embed="rId4"/>
          <a:stretch/>
        </p:blipFill>
        <p:spPr>
          <a:xfrm>
            <a:off x="5580000" y="3429000"/>
            <a:ext cx="876240" cy="723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50"/>
          <p:cNvPicPr/>
          <p:nvPr/>
        </p:nvPicPr>
        <p:blipFill>
          <a:blip r:embed="rId5"/>
          <a:stretch/>
        </p:blipFill>
        <p:spPr>
          <a:xfrm>
            <a:off x="395280" y="260280"/>
            <a:ext cx="952560" cy="8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пирамида"/>
          <p:cNvPicPr/>
          <p:nvPr/>
        </p:nvPicPr>
        <p:blipFill>
          <a:blip r:embed="rId6"/>
          <a:stretch/>
        </p:blipFill>
        <p:spPr>
          <a:xfrm>
            <a:off x="0" y="1341360"/>
            <a:ext cx="33130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00cc66"/>
            </a:gs>
            <a:gs pos="100000">
              <a:srgbClr val="ff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476360" y="549360"/>
            <a:ext cx="669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й кошке поклонялись древние индей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ягуар"/>
          <p:cNvPicPr/>
          <p:nvPr/>
        </p:nvPicPr>
        <p:blipFill>
          <a:blip r:embed="rId1"/>
          <a:srcRect l="12213" t="0" r="12213" b="0"/>
          <a:stretch/>
        </p:blipFill>
        <p:spPr>
          <a:xfrm>
            <a:off x="395280" y="1052640"/>
            <a:ext cx="2808360" cy="2792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гепард"/>
          <p:cNvPicPr/>
          <p:nvPr/>
        </p:nvPicPr>
        <p:blipFill>
          <a:blip r:embed="rId2"/>
          <a:srcRect l="0" t="0" r="10007" b="0"/>
          <a:stretch/>
        </p:blipFill>
        <p:spPr>
          <a:xfrm>
            <a:off x="6300720" y="981000"/>
            <a:ext cx="2246400" cy="290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рысь"/>
          <p:cNvPicPr/>
          <p:nvPr/>
        </p:nvPicPr>
        <p:blipFill>
          <a:blip r:embed="rId3"/>
          <a:srcRect l="13741" t="0" r="10673" b="0"/>
          <a:stretch/>
        </p:blipFill>
        <p:spPr>
          <a:xfrm>
            <a:off x="3348000" y="1052640"/>
            <a:ext cx="2808360" cy="2690640"/>
          </a:xfrm>
          <a:prstGeom prst="rect">
            <a:avLst/>
          </a:prstGeom>
          <a:ln w="0">
            <a:noFill/>
          </a:ln>
        </p:spPr>
      </p:pic>
      <p:sp>
        <p:nvSpPr>
          <p:cNvPr id="127" name="Oval 8"/>
          <p:cNvSpPr/>
          <p:nvPr/>
        </p:nvSpPr>
        <p:spPr>
          <a:xfrm>
            <a:off x="6372360" y="3933720"/>
            <a:ext cx="1728720" cy="647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Геп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11280" y="3860640"/>
            <a:ext cx="1728720" cy="64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Ягу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3564000" y="3789360"/>
            <a:ext cx="1728720" cy="647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476360" y="5373720"/>
            <a:ext cx="79200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2987640" y="5373720"/>
            <a:ext cx="79236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4500720" y="5373720"/>
            <a:ext cx="79200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6012000" y="5373720"/>
            <a:ext cx="79200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7524720" y="5373720"/>
            <a:ext cx="79236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179280" y="5445000"/>
            <a:ext cx="64764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826920" y="5734080"/>
            <a:ext cx="64800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2340000" y="573408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6877080" y="573408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5364000" y="5734080"/>
            <a:ext cx="64800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3851280" y="573408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900000" y="515772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3780000" y="515772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3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5364000" y="515772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0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804000" y="515772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2268360" y="515772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4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9"/>
          <p:cNvSpPr/>
          <p:nvPr/>
        </p:nvSpPr>
        <p:spPr>
          <a:xfrm>
            <a:off x="4500720" y="5373720"/>
            <a:ext cx="792000" cy="72072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1"/>
          <p:cNvSpPr/>
          <p:nvPr/>
        </p:nvSpPr>
        <p:spPr>
          <a:xfrm>
            <a:off x="7524720" y="5373720"/>
            <a:ext cx="792360" cy="72072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3"/>
          <p:cNvSpPr/>
          <p:nvPr/>
        </p:nvSpPr>
        <p:spPr>
          <a:xfrm flipH="1" flipV="1">
            <a:off x="2268360" y="4005360"/>
            <a:ext cx="648000" cy="50472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4"/>
          <p:cNvSpPr/>
          <p:nvPr/>
        </p:nvSpPr>
        <p:spPr>
          <a:xfrm flipH="1" flipV="1">
            <a:off x="8100360" y="3933000"/>
            <a:ext cx="647640" cy="50508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5"/>
          <p:cNvSpPr/>
          <p:nvPr/>
        </p:nvSpPr>
        <p:spPr>
          <a:xfrm flipH="1" flipV="1">
            <a:off x="5292000" y="3859920"/>
            <a:ext cx="647640" cy="50508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6"/>
          <p:cNvSpPr txBox="1"/>
          <p:nvPr/>
        </p:nvSpPr>
        <p:spPr>
          <a:xfrm>
            <a:off x="2195640" y="0"/>
            <a:ext cx="50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ычисли ус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AutoShape 47">
            <a:hlinkClick r:id="rId6" action="ppaction://hlinksldjump"/>
          </p:cNvPr>
          <p:cNvSpPr/>
          <p:nvPr/>
        </p:nvSpPr>
        <p:spPr>
          <a:xfrm>
            <a:off x="788508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16234" y="3837"/>
                </a:moveTo>
                <a:lnTo>
                  <a:pt x="18810" y="6448"/>
                </a:ln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lnTo>
                  <a:pt x="23197" y="10800"/>
                </a:lnTo>
                <a:lnTo>
                  <a:pt x="21543" y="10800"/>
                </a:lnTo>
                <a:lnTo>
                  <a:pt x="21543" y="17989"/>
                </a:lnTo>
                <a:lnTo>
                  <a:pt x="10925" y="17989"/>
                </a:lnTo>
                <a:lnTo>
                  <a:pt x="10925" y="10800"/>
                </a:lnTo>
                <a:lnTo>
                  <a:pt x="9271" y="10800"/>
                </a:lnTo>
                <a:close/>
              </a:path>
              <a:path fill="darkenLess" w="32468" h="21600">
                <a:moveTo>
                  <a:pt x="18810" y="6448"/>
                </a:move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close/>
              </a:path>
              <a:path fill="darkenLess" w="32468" h="21600">
                <a:moveTo>
                  <a:pt x="15311" y="14299"/>
                </a:moveTo>
                <a:lnTo>
                  <a:pt x="17156" y="14299"/>
                </a:lnTo>
                <a:lnTo>
                  <a:pt x="17156" y="17989"/>
                </a:lnTo>
                <a:lnTo>
                  <a:pt x="21543" y="17989"/>
                </a:lnTo>
                <a:lnTo>
                  <a:pt x="21543" y="10800"/>
                </a:lnTo>
                <a:lnTo>
                  <a:pt x="10925" y="10800"/>
                </a:lnTo>
                <a:lnTo>
                  <a:pt x="10925" y="17989"/>
                </a:lnTo>
                <a:lnTo>
                  <a:pt x="15311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8">
            <a:hlinkClick r:id="" action="ppaction://hlinkshowjump?jump=nextslide"/>
          </p:cNvPr>
          <p:cNvSpPr/>
          <p:nvPr/>
        </p:nvSpPr>
        <p:spPr>
          <a:xfrm>
            <a:off x="838836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76360" y="549360"/>
            <a:ext cx="669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й кошке поклонялись древние индей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ягуар"/>
          <p:cNvPicPr/>
          <p:nvPr/>
        </p:nvPicPr>
        <p:blipFill>
          <a:blip r:embed="rId1"/>
          <a:srcRect l="12213" t="0" r="12213" b="0"/>
          <a:stretch/>
        </p:blipFill>
        <p:spPr>
          <a:xfrm>
            <a:off x="395280" y="1052640"/>
            <a:ext cx="2808360" cy="279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гепард"/>
          <p:cNvPicPr/>
          <p:nvPr/>
        </p:nvPicPr>
        <p:blipFill>
          <a:blip r:embed="rId2"/>
          <a:srcRect l="0" t="0" r="10007" b="0"/>
          <a:stretch/>
        </p:blipFill>
        <p:spPr>
          <a:xfrm>
            <a:off x="6300720" y="981000"/>
            <a:ext cx="2246400" cy="290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рысь"/>
          <p:cNvPicPr/>
          <p:nvPr/>
        </p:nvPicPr>
        <p:blipFill>
          <a:blip r:embed="rId3"/>
          <a:srcRect l="13741" t="0" r="10673" b="0"/>
          <a:stretch/>
        </p:blipFill>
        <p:spPr>
          <a:xfrm>
            <a:off x="3348000" y="1052640"/>
            <a:ext cx="2808360" cy="2690640"/>
          </a:xfrm>
          <a:prstGeom prst="rect">
            <a:avLst/>
          </a:prstGeom>
          <a:ln w="0">
            <a:noFill/>
          </a:ln>
        </p:spPr>
      </p:pic>
      <p:sp>
        <p:nvSpPr>
          <p:cNvPr id="158" name="Oval 6"/>
          <p:cNvSpPr/>
          <p:nvPr/>
        </p:nvSpPr>
        <p:spPr>
          <a:xfrm>
            <a:off x="6372360" y="3933720"/>
            <a:ext cx="1728720" cy="647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Геп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611280" y="3860640"/>
            <a:ext cx="1728720" cy="64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Ягу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3564000" y="3789360"/>
            <a:ext cx="1728720" cy="647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476360" y="5373720"/>
            <a:ext cx="79200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987640" y="5373720"/>
            <a:ext cx="79236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4500720" y="5373720"/>
            <a:ext cx="79200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6012000" y="5373720"/>
            <a:ext cx="79200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7524720" y="5373720"/>
            <a:ext cx="792360" cy="7207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179280" y="5445000"/>
            <a:ext cx="64764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826920" y="5734080"/>
            <a:ext cx="64800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340000" y="573408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6877080" y="573408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5364000" y="5734080"/>
            <a:ext cx="64800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3851280" y="5734080"/>
            <a:ext cx="647640" cy="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900000" y="515772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3780000" y="515772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3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5364000" y="515772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-0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6804000" y="515772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268360" y="515772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+4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4500720" y="5373720"/>
            <a:ext cx="792000" cy="72072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6"/>
          <p:cNvSpPr/>
          <p:nvPr/>
        </p:nvSpPr>
        <p:spPr>
          <a:xfrm>
            <a:off x="7524720" y="5373720"/>
            <a:ext cx="792360" cy="72072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7"/>
          <p:cNvSpPr/>
          <p:nvPr/>
        </p:nvSpPr>
        <p:spPr>
          <a:xfrm flipH="1" flipV="1">
            <a:off x="2268360" y="4005360"/>
            <a:ext cx="648000" cy="50472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8"/>
          <p:cNvSpPr/>
          <p:nvPr/>
        </p:nvSpPr>
        <p:spPr>
          <a:xfrm flipH="1" flipV="1">
            <a:off x="8100360" y="3933000"/>
            <a:ext cx="647640" cy="50508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9"/>
          <p:cNvSpPr/>
          <p:nvPr/>
        </p:nvSpPr>
        <p:spPr>
          <a:xfrm flipH="1" flipV="1">
            <a:off x="5292000" y="3859920"/>
            <a:ext cx="647640" cy="50508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30"/>
          <p:cNvSpPr txBox="1"/>
          <p:nvPr/>
        </p:nvSpPr>
        <p:spPr>
          <a:xfrm>
            <a:off x="2195640" y="0"/>
            <a:ext cx="50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ычисли ус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3" name="AutoShape 31">
            <a:hlinkClick r:id="rId6" action="ppaction://hlinksldjump"/>
          </p:cNvPr>
          <p:cNvSpPr/>
          <p:nvPr/>
        </p:nvSpPr>
        <p:spPr>
          <a:xfrm>
            <a:off x="788508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16234" y="3837"/>
                </a:moveTo>
                <a:lnTo>
                  <a:pt x="18810" y="6448"/>
                </a:ln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lnTo>
                  <a:pt x="23197" y="10800"/>
                </a:lnTo>
                <a:lnTo>
                  <a:pt x="21543" y="10800"/>
                </a:lnTo>
                <a:lnTo>
                  <a:pt x="21543" y="17989"/>
                </a:lnTo>
                <a:lnTo>
                  <a:pt x="10925" y="17989"/>
                </a:lnTo>
                <a:lnTo>
                  <a:pt x="10925" y="10800"/>
                </a:lnTo>
                <a:lnTo>
                  <a:pt x="9271" y="10800"/>
                </a:lnTo>
                <a:close/>
              </a:path>
              <a:path fill="darkenLess" w="32468" h="21600">
                <a:moveTo>
                  <a:pt x="18810" y="6448"/>
                </a:move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close/>
              </a:path>
              <a:path fill="darkenLess" w="32468" h="21600">
                <a:moveTo>
                  <a:pt x="15311" y="14299"/>
                </a:moveTo>
                <a:lnTo>
                  <a:pt x="17156" y="14299"/>
                </a:lnTo>
                <a:lnTo>
                  <a:pt x="17156" y="17989"/>
                </a:lnTo>
                <a:lnTo>
                  <a:pt x="21543" y="17989"/>
                </a:lnTo>
                <a:lnTo>
                  <a:pt x="21543" y="10800"/>
                </a:lnTo>
                <a:lnTo>
                  <a:pt x="10925" y="10800"/>
                </a:lnTo>
                <a:lnTo>
                  <a:pt x="10925" y="17989"/>
                </a:lnTo>
                <a:lnTo>
                  <a:pt x="15311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2">
            <a:hlinkClick r:id="" action="ppaction://hlinkshowjump?jump=nextslide"/>
          </p:cNvPr>
          <p:cNvSpPr/>
          <p:nvPr/>
        </p:nvSpPr>
        <p:spPr>
          <a:xfrm>
            <a:off x="838836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3132000" y="620640"/>
            <a:ext cx="39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кую птицу назыв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тицей-леген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венценосный журавль"/>
          <p:cNvPicPr/>
          <p:nvPr/>
        </p:nvPicPr>
        <p:blipFill>
          <a:blip r:embed="rId2"/>
          <a:stretch/>
        </p:blipFill>
        <p:spPr>
          <a:xfrm>
            <a:off x="539640" y="3500280"/>
            <a:ext cx="2214720" cy="2592720"/>
          </a:xfrm>
          <a:prstGeom prst="rect">
            <a:avLst/>
          </a:prstGeom>
          <a:ln w="0">
            <a:noFill/>
          </a:ln>
        </p:spPr>
      </p:pic>
      <p:sp>
        <p:nvSpPr>
          <p:cNvPr id="187" name="Oval 10"/>
          <p:cNvSpPr/>
          <p:nvPr/>
        </p:nvSpPr>
        <p:spPr>
          <a:xfrm>
            <a:off x="395280" y="5950080"/>
            <a:ext cx="2664000" cy="765000"/>
          </a:xfrm>
          <a:prstGeom prst="ellipse">
            <a:avLst/>
          </a:prstGeom>
          <a:solidFill>
            <a:srgbClr val="d9db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енцено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журав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932360" y="1916280"/>
            <a:ext cx="64764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7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5580000" y="2205000"/>
            <a:ext cx="64764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6948360" y="2205000"/>
            <a:ext cx="64800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7956720" y="2565360"/>
            <a:ext cx="0" cy="647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7596360" y="1844640"/>
            <a:ext cx="718920" cy="7192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7596360" y="4581360"/>
            <a:ext cx="718920" cy="7192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7596360" y="5950080"/>
            <a:ext cx="718920" cy="7189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7596360" y="3213000"/>
            <a:ext cx="718920" cy="7192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6227640" y="1844640"/>
            <a:ext cx="719280" cy="7192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7956720" y="3933720"/>
            <a:ext cx="0" cy="647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7956720" y="5300640"/>
            <a:ext cx="0" cy="647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5580000" y="1628640"/>
            <a:ext cx="649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-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6877080" y="1628640"/>
            <a:ext cx="64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+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8101080" y="3933720"/>
            <a:ext cx="64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-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8028000" y="2565360"/>
            <a:ext cx="649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+2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8101080" y="5300640"/>
            <a:ext cx="64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+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1"/>
          <p:cNvSpPr/>
          <p:nvPr/>
        </p:nvSpPr>
        <p:spPr>
          <a:xfrm>
            <a:off x="7596360" y="4581360"/>
            <a:ext cx="718920" cy="71928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2"/>
          <p:cNvSpPr/>
          <p:nvPr/>
        </p:nvSpPr>
        <p:spPr>
          <a:xfrm>
            <a:off x="7596360" y="3213000"/>
            <a:ext cx="718920" cy="71928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3"/>
          <p:cNvSpPr/>
          <p:nvPr/>
        </p:nvSpPr>
        <p:spPr>
          <a:xfrm>
            <a:off x="7596360" y="1844640"/>
            <a:ext cx="718920" cy="71928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4"/>
          <p:cNvSpPr/>
          <p:nvPr/>
        </p:nvSpPr>
        <p:spPr>
          <a:xfrm>
            <a:off x="6227640" y="1844640"/>
            <a:ext cx="719280" cy="71928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7596360" y="5950080"/>
            <a:ext cx="718920" cy="71892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8"/>
          <p:cNvSpPr/>
          <p:nvPr/>
        </p:nvSpPr>
        <p:spPr>
          <a:xfrm>
            <a:off x="2050920" y="5516640"/>
            <a:ext cx="64944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51"/>
          <p:cNvGrpSpPr/>
          <p:nvPr/>
        </p:nvGrpSpPr>
        <p:grpSpPr>
          <a:xfrm>
            <a:off x="250920" y="189000"/>
            <a:ext cx="2736720" cy="3429000"/>
            <a:chOff x="250920" y="189000"/>
            <a:chExt cx="2736720" cy="3429000"/>
          </a:xfrm>
        </p:grpSpPr>
        <p:pic>
          <p:nvPicPr>
            <p:cNvPr id="211" name="Picture 6" descr="священный ибис"/>
            <p:cNvPicPr/>
            <p:nvPr/>
          </p:nvPicPr>
          <p:blipFill>
            <a:blip r:embed="rId3"/>
            <a:srcRect l="8099" t="5825" r="5481" b="14552"/>
            <a:stretch/>
          </p:blipFill>
          <p:spPr>
            <a:xfrm>
              <a:off x="250920" y="189000"/>
              <a:ext cx="21366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Oval 11"/>
            <p:cNvSpPr/>
            <p:nvPr/>
          </p:nvSpPr>
          <p:spPr>
            <a:xfrm>
              <a:off x="250920" y="2853000"/>
              <a:ext cx="2736720" cy="765000"/>
            </a:xfrm>
            <a:prstGeom prst="ellipse">
              <a:avLst/>
            </a:prstGeom>
            <a:solidFill>
              <a:srgbClr val="d9db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6600"/>
                  </a:solidFill>
                  <a:latin typeface="Arial"/>
                </a:rPr>
                <a:t>Священный иб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9"/>
            <p:cNvSpPr/>
            <p:nvPr/>
          </p:nvSpPr>
          <p:spPr>
            <a:xfrm>
              <a:off x="1618920" y="2349720"/>
              <a:ext cx="792000" cy="504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1"/>
          <p:cNvGrpSpPr/>
          <p:nvPr/>
        </p:nvGrpSpPr>
        <p:grpSpPr>
          <a:xfrm>
            <a:off x="3059280" y="2924280"/>
            <a:ext cx="4031640" cy="3095640"/>
            <a:chOff x="3059280" y="2924280"/>
            <a:chExt cx="4031640" cy="3095640"/>
          </a:xfrm>
        </p:grpSpPr>
        <p:pic>
          <p:nvPicPr>
            <p:cNvPr id="215" name="Picture 7" descr="белый аист"/>
            <p:cNvPicPr/>
            <p:nvPr/>
          </p:nvPicPr>
          <p:blipFill>
            <a:blip r:embed="rId4"/>
            <a:srcRect l="0" t="11310" r="15528" b="0"/>
            <a:stretch/>
          </p:blipFill>
          <p:spPr>
            <a:xfrm>
              <a:off x="3059280" y="2924280"/>
              <a:ext cx="1933200" cy="25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8" descr="черный аист"/>
            <p:cNvPicPr/>
            <p:nvPr/>
          </p:nvPicPr>
          <p:blipFill>
            <a:blip r:embed="rId5"/>
            <a:stretch/>
          </p:blipFill>
          <p:spPr>
            <a:xfrm>
              <a:off x="4859280" y="2924280"/>
              <a:ext cx="209988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Oval 9"/>
            <p:cNvSpPr/>
            <p:nvPr/>
          </p:nvSpPr>
          <p:spPr>
            <a:xfrm>
              <a:off x="3130560" y="5443560"/>
              <a:ext cx="3960360" cy="576360"/>
            </a:xfrm>
            <a:prstGeom prst="ellipse">
              <a:avLst/>
            </a:prstGeom>
            <a:solidFill>
              <a:srgbClr val="d9db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6600"/>
                  </a:solidFill>
                  <a:latin typeface="Arial"/>
                </a:rPr>
                <a:t>Белый и черный аис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7"/>
            <p:cNvSpPr/>
            <p:nvPr/>
          </p:nvSpPr>
          <p:spPr>
            <a:xfrm>
              <a:off x="4643280" y="4869000"/>
              <a:ext cx="792000" cy="574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WordArt 52"/>
          <p:cNvSpPr txBox="1"/>
          <p:nvPr/>
        </p:nvSpPr>
        <p:spPr>
          <a:xfrm>
            <a:off x="2987640" y="189000"/>
            <a:ext cx="50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Вычисли ус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0" name="AutoShape 53"/>
          <p:cNvSpPr/>
          <p:nvPr/>
        </p:nvSpPr>
        <p:spPr>
          <a:xfrm>
            <a:off x="435600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16234" y="3837"/>
                </a:moveTo>
                <a:lnTo>
                  <a:pt x="18810" y="6448"/>
                </a:ln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lnTo>
                  <a:pt x="23197" y="10800"/>
                </a:lnTo>
                <a:lnTo>
                  <a:pt x="21543" y="10800"/>
                </a:lnTo>
                <a:lnTo>
                  <a:pt x="21543" y="17989"/>
                </a:lnTo>
                <a:lnTo>
                  <a:pt x="10925" y="17989"/>
                </a:lnTo>
                <a:lnTo>
                  <a:pt x="10925" y="10800"/>
                </a:lnTo>
                <a:lnTo>
                  <a:pt x="9271" y="10800"/>
                </a:lnTo>
                <a:close/>
              </a:path>
              <a:path fill="darkenLess" w="32468" h="21600">
                <a:moveTo>
                  <a:pt x="18810" y="6448"/>
                </a:move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close/>
              </a:path>
              <a:path fill="darkenLess" w="32468" h="21600">
                <a:moveTo>
                  <a:pt x="15311" y="14299"/>
                </a:moveTo>
                <a:lnTo>
                  <a:pt x="17156" y="14299"/>
                </a:lnTo>
                <a:lnTo>
                  <a:pt x="17156" y="17989"/>
                </a:lnTo>
                <a:lnTo>
                  <a:pt x="21543" y="17989"/>
                </a:lnTo>
                <a:lnTo>
                  <a:pt x="21543" y="10800"/>
                </a:lnTo>
                <a:lnTo>
                  <a:pt x="10925" y="10800"/>
                </a:lnTo>
                <a:lnTo>
                  <a:pt x="10925" y="17989"/>
                </a:lnTo>
                <a:lnTo>
                  <a:pt x="15311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4">
            <a:hlinkClick r:id="" action="ppaction://hlinkshowjump?jump=nextslide"/>
          </p:cNvPr>
          <p:cNvSpPr/>
          <p:nvPr/>
        </p:nvSpPr>
        <p:spPr>
          <a:xfrm>
            <a:off x="500364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132000" y="620640"/>
            <a:ext cx="39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кую птицу назыв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тицей-леген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венценосный журавль"/>
          <p:cNvPicPr/>
          <p:nvPr/>
        </p:nvPicPr>
        <p:blipFill>
          <a:blip r:embed="rId1"/>
          <a:stretch/>
        </p:blipFill>
        <p:spPr>
          <a:xfrm>
            <a:off x="539640" y="3500280"/>
            <a:ext cx="2214720" cy="2592720"/>
          </a:xfrm>
          <a:prstGeom prst="rect">
            <a:avLst/>
          </a:prstGeom>
          <a:ln w="0">
            <a:noFill/>
          </a:ln>
        </p:spPr>
      </p:pic>
      <p:sp>
        <p:nvSpPr>
          <p:cNvPr id="224" name="Oval 4"/>
          <p:cNvSpPr/>
          <p:nvPr/>
        </p:nvSpPr>
        <p:spPr>
          <a:xfrm>
            <a:off x="395280" y="5950080"/>
            <a:ext cx="2664000" cy="765000"/>
          </a:xfrm>
          <a:prstGeom prst="ellipse">
            <a:avLst/>
          </a:prstGeom>
          <a:solidFill>
            <a:srgbClr val="d9db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енцено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журав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932360" y="1916280"/>
            <a:ext cx="64764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7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5580000" y="2205000"/>
            <a:ext cx="64764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6948360" y="2205000"/>
            <a:ext cx="64800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7956720" y="2565360"/>
            <a:ext cx="0" cy="647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7596360" y="1844640"/>
            <a:ext cx="718920" cy="7192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7596360" y="4581360"/>
            <a:ext cx="718920" cy="7192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596360" y="5950080"/>
            <a:ext cx="718920" cy="7189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7596360" y="3213000"/>
            <a:ext cx="718920" cy="7192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6227640" y="1844640"/>
            <a:ext cx="719280" cy="7192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7956720" y="3933720"/>
            <a:ext cx="0" cy="647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7956720" y="5300640"/>
            <a:ext cx="0" cy="647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5580000" y="1628640"/>
            <a:ext cx="649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-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6877080" y="1628640"/>
            <a:ext cx="64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+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8101080" y="3933720"/>
            <a:ext cx="64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-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8028000" y="2565360"/>
            <a:ext cx="649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+2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8101080" y="5300640"/>
            <a:ext cx="64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+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1"/>
          <p:cNvSpPr/>
          <p:nvPr/>
        </p:nvSpPr>
        <p:spPr>
          <a:xfrm>
            <a:off x="7596360" y="4581360"/>
            <a:ext cx="718920" cy="71928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9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2"/>
          <p:cNvSpPr/>
          <p:nvPr/>
        </p:nvSpPr>
        <p:spPr>
          <a:xfrm>
            <a:off x="7596360" y="3213000"/>
            <a:ext cx="718920" cy="71928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3"/>
          <p:cNvSpPr/>
          <p:nvPr/>
        </p:nvSpPr>
        <p:spPr>
          <a:xfrm>
            <a:off x="7596360" y="1844640"/>
            <a:ext cx="718920" cy="71928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6227640" y="1844640"/>
            <a:ext cx="719280" cy="71928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3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5"/>
          <p:cNvSpPr/>
          <p:nvPr/>
        </p:nvSpPr>
        <p:spPr>
          <a:xfrm>
            <a:off x="7596360" y="5950080"/>
            <a:ext cx="718920" cy="718920"/>
          </a:xfrm>
          <a:prstGeom prst="diamond">
            <a:avLst/>
          </a:prstGeom>
          <a:solidFill>
            <a:srgbClr val="ffcc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2050920" y="5516640"/>
            <a:ext cx="64944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27"/>
          <p:cNvGrpSpPr/>
          <p:nvPr/>
        </p:nvGrpSpPr>
        <p:grpSpPr>
          <a:xfrm>
            <a:off x="250920" y="189000"/>
            <a:ext cx="2736720" cy="3429000"/>
            <a:chOff x="250920" y="189000"/>
            <a:chExt cx="2736720" cy="3429000"/>
          </a:xfrm>
        </p:grpSpPr>
        <p:pic>
          <p:nvPicPr>
            <p:cNvPr id="248" name="Picture 28" descr="священный ибис"/>
            <p:cNvPicPr/>
            <p:nvPr/>
          </p:nvPicPr>
          <p:blipFill>
            <a:blip r:embed="rId2"/>
            <a:srcRect l="8099" t="5825" r="5481" b="14552"/>
            <a:stretch/>
          </p:blipFill>
          <p:spPr>
            <a:xfrm>
              <a:off x="250920" y="189000"/>
              <a:ext cx="21366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Oval 29"/>
            <p:cNvSpPr/>
            <p:nvPr/>
          </p:nvSpPr>
          <p:spPr>
            <a:xfrm>
              <a:off x="250920" y="2853000"/>
              <a:ext cx="2736720" cy="765000"/>
            </a:xfrm>
            <a:prstGeom prst="ellipse">
              <a:avLst/>
            </a:prstGeom>
            <a:solidFill>
              <a:srgbClr val="d9db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6600"/>
                  </a:solidFill>
                  <a:latin typeface="Arial"/>
                </a:rPr>
                <a:t>Священный иб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1618920" y="2349720"/>
              <a:ext cx="792000" cy="504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1"/>
          <p:cNvGrpSpPr/>
          <p:nvPr/>
        </p:nvGrpSpPr>
        <p:grpSpPr>
          <a:xfrm>
            <a:off x="3059280" y="2924280"/>
            <a:ext cx="4031640" cy="3095640"/>
            <a:chOff x="3059280" y="2924280"/>
            <a:chExt cx="4031640" cy="3095640"/>
          </a:xfrm>
        </p:grpSpPr>
        <p:pic>
          <p:nvPicPr>
            <p:cNvPr id="252" name="Picture 32" descr="белый аист"/>
            <p:cNvPicPr/>
            <p:nvPr/>
          </p:nvPicPr>
          <p:blipFill>
            <a:blip r:embed="rId3"/>
            <a:srcRect l="0" t="11310" r="15528" b="0"/>
            <a:stretch/>
          </p:blipFill>
          <p:spPr>
            <a:xfrm>
              <a:off x="3059280" y="2924280"/>
              <a:ext cx="1933200" cy="25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3" descr="черный аист"/>
            <p:cNvPicPr/>
            <p:nvPr/>
          </p:nvPicPr>
          <p:blipFill>
            <a:blip r:embed="rId4"/>
            <a:stretch/>
          </p:blipFill>
          <p:spPr>
            <a:xfrm>
              <a:off x="4859280" y="2924280"/>
              <a:ext cx="209988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34"/>
            <p:cNvSpPr/>
            <p:nvPr/>
          </p:nvSpPr>
          <p:spPr>
            <a:xfrm>
              <a:off x="3130560" y="5443560"/>
              <a:ext cx="3960360" cy="576360"/>
            </a:xfrm>
            <a:prstGeom prst="ellipse">
              <a:avLst/>
            </a:prstGeom>
            <a:solidFill>
              <a:srgbClr val="d9db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6600"/>
                  </a:solidFill>
                  <a:latin typeface="Arial"/>
                </a:rPr>
                <a:t>Белый и черный аис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4643280" y="4869000"/>
              <a:ext cx="792000" cy="574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WordArt 36"/>
          <p:cNvSpPr txBox="1"/>
          <p:nvPr/>
        </p:nvSpPr>
        <p:spPr>
          <a:xfrm>
            <a:off x="2987640" y="189000"/>
            <a:ext cx="50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Вычисли ус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7" name="AutoShape 37"/>
          <p:cNvSpPr/>
          <p:nvPr/>
        </p:nvSpPr>
        <p:spPr>
          <a:xfrm>
            <a:off x="435600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16234" y="3837"/>
                </a:moveTo>
                <a:lnTo>
                  <a:pt x="18810" y="6448"/>
                </a:ln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lnTo>
                  <a:pt x="23197" y="10800"/>
                </a:lnTo>
                <a:lnTo>
                  <a:pt x="21543" y="10800"/>
                </a:lnTo>
                <a:lnTo>
                  <a:pt x="21543" y="17989"/>
                </a:lnTo>
                <a:lnTo>
                  <a:pt x="10925" y="17989"/>
                </a:lnTo>
                <a:lnTo>
                  <a:pt x="10925" y="10800"/>
                </a:lnTo>
                <a:lnTo>
                  <a:pt x="9271" y="10800"/>
                </a:lnTo>
                <a:close/>
              </a:path>
              <a:path fill="darkenLess" w="32468" h="21600">
                <a:moveTo>
                  <a:pt x="18810" y="6448"/>
                </a:moveTo>
                <a:lnTo>
                  <a:pt x="18810" y="4707"/>
                </a:lnTo>
                <a:lnTo>
                  <a:pt x="20586" y="4707"/>
                </a:lnTo>
                <a:lnTo>
                  <a:pt x="20586" y="8224"/>
                </a:lnTo>
                <a:close/>
              </a:path>
              <a:path fill="darkenLess" w="32468" h="21600">
                <a:moveTo>
                  <a:pt x="15311" y="14299"/>
                </a:moveTo>
                <a:lnTo>
                  <a:pt x="17156" y="14299"/>
                </a:lnTo>
                <a:lnTo>
                  <a:pt x="17156" y="17989"/>
                </a:lnTo>
                <a:lnTo>
                  <a:pt x="21543" y="17989"/>
                </a:lnTo>
                <a:lnTo>
                  <a:pt x="21543" y="10800"/>
                </a:lnTo>
                <a:lnTo>
                  <a:pt x="10925" y="10800"/>
                </a:lnTo>
                <a:lnTo>
                  <a:pt x="10925" y="17989"/>
                </a:lnTo>
                <a:lnTo>
                  <a:pt x="15311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8">
            <a:hlinkClick r:id="" action="ppaction://hlinkshowjump?jump=nextslide"/>
          </p:cNvPr>
          <p:cNvSpPr/>
          <p:nvPr/>
        </p:nvSpPr>
        <p:spPr>
          <a:xfrm>
            <a:off x="500364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06:48:50Z</dcterms:created>
  <dc:creator>User</dc:creator>
  <dc:description/>
  <dc:language>en-US</dc:language>
  <cp:lastModifiedBy>Рафик</cp:lastModifiedBy>
  <dcterms:modified xsi:type="dcterms:W3CDTF">2012-03-13T05:32:23Z</dcterms:modified>
  <cp:revision>51</cp:revision>
  <dc:subject/>
  <dc:title>Слайд 1</dc:title>
</cp:coreProperties>
</file>